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9F32-2F74-4C02-B834-3F254458B70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6D96-7D6A-4B5F-B81F-C3D44B5CD54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DF4E-45E1-4AA7-9F70-196B23EC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6B71-5271-404F-9631-0EC1638B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2B24-7345-473C-9E1C-CE94B19A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E9C3-8E24-44F6-9357-9E02EF993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15DE-B900-44A8-8EC8-2A230C4C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DF2D-5F66-4158-983A-EB930C54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038F-B1A7-4D12-BC01-78C83B32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C0D4-AFB2-4FB1-880C-8E7C50DD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E352-76A1-4269-B637-B98ECC2D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DBAF-3FC6-4C3A-A0BF-6E113500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E24F-88A3-4F83-B070-E587C384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ED69-A0C2-4B4E-BBCF-039B9191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C319-B619-43C4-AA95-5E215032818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Overview DZ new 300912"/>
          <p:cNvPicPr/>
          <p:nvPr/>
        </p:nvPicPr>
        <p:blipFill>
          <a:blip r:embed="rId1"/>
          <a:stretch/>
        </p:blipFill>
        <p:spPr>
          <a:xfrm>
            <a:off x="1703520" y="0"/>
            <a:ext cx="7440480" cy="6845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-87120" y="2860560"/>
            <a:ext cx="190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ion Sites new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dial 201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Logo Mondial 2012 new"/>
          <p:cNvPicPr/>
          <p:nvPr/>
        </p:nvPicPr>
        <p:blipFill>
          <a:blip r:embed="rId3"/>
          <a:stretch/>
        </p:blipFill>
        <p:spPr>
          <a:xfrm>
            <a:off x="60480" y="539892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52" name="Line 13"/>
          <p:cNvSpPr/>
          <p:nvPr/>
        </p:nvSpPr>
        <p:spPr>
          <a:xfrm>
            <a:off x="4135320" y="5284800"/>
            <a:ext cx="460872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 rot="357000">
            <a:off x="5819400" y="5289480"/>
            <a:ext cx="1343520" cy="276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5,3 km (3,3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6966000" y="5865840"/>
            <a:ext cx="156672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orse Race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nopy Formation/Styl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7326000" y="2557440"/>
            <a:ext cx="15692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itional D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tistic Events/Accura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V="1">
            <a:off x="4140360" y="2814480"/>
            <a:ext cx="2952720" cy="2448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 rot="19197600">
            <a:off x="5325120" y="3819240"/>
            <a:ext cx="1343520" cy="276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5 km (2,8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7093080" y="2735280"/>
            <a:ext cx="1655640" cy="30956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7326000" y="3743280"/>
            <a:ext cx="134352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1770120" y="2630520"/>
            <a:ext cx="5249880" cy="19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3628800" y="27082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6,0 km (3,7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 rot="2086800">
            <a:off x="7048080" y="2459160"/>
            <a:ext cx="21600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 flipH="1" flipV="1">
            <a:off x="1763280" y="2636640"/>
            <a:ext cx="2373480" cy="26031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1790640" y="1878120"/>
            <a:ext cx="17780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lm Jumeir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/Artis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068200" y="37828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2410560" y="5553000"/>
            <a:ext cx="1727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kydive Dubai DZ 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nding/Canopy Pilo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alm Jumeirah alternate DZs"/>
          <p:cNvPicPr/>
          <p:nvPr/>
        </p:nvPicPr>
        <p:blipFill>
          <a:blip r:embed="rId1"/>
          <a:stretch/>
        </p:blipFill>
        <p:spPr>
          <a:xfrm>
            <a:off x="1711440" y="22320"/>
            <a:ext cx="7397640" cy="6805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8" name="Line 3"/>
          <p:cNvSpPr/>
          <p:nvPr/>
        </p:nvSpPr>
        <p:spPr>
          <a:xfrm flipH="1">
            <a:off x="4859280" y="2578320"/>
            <a:ext cx="406800" cy="2380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4311720" y="2790720"/>
            <a:ext cx="1320840" cy="208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 rot="604800">
            <a:off x="1953720" y="2220840"/>
            <a:ext cx="414360" cy="10335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 rot="16666800">
            <a:off x="1705320" y="262080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DZ FS/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Logo Mondial 2012 new"/>
          <p:cNvPicPr/>
          <p:nvPr/>
        </p:nvPicPr>
        <p:blipFill>
          <a:blip r:embed="rId2"/>
          <a:stretch/>
        </p:blipFill>
        <p:spPr>
          <a:xfrm>
            <a:off x="38160" y="6984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Logo Mondial 2012 new"/>
          <p:cNvPicPr/>
          <p:nvPr/>
        </p:nvPicPr>
        <p:blipFill>
          <a:blip r:embed="rId3"/>
          <a:stretch/>
        </p:blipFill>
        <p:spPr>
          <a:xfrm>
            <a:off x="31680" y="5830920"/>
            <a:ext cx="1616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Z Option C close look"/>
          <p:cNvPicPr/>
          <p:nvPr/>
        </p:nvPicPr>
        <p:blipFill>
          <a:blip r:embed="rId1"/>
          <a:stretch/>
        </p:blipFill>
        <p:spPr>
          <a:xfrm>
            <a:off x="1728720" y="31680"/>
            <a:ext cx="7380360" cy="67899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Logo Mondial 2012 new"/>
          <p:cNvPicPr/>
          <p:nvPr/>
        </p:nvPicPr>
        <p:blipFill>
          <a:blip r:embed="rId2"/>
          <a:stretch/>
        </p:blipFill>
        <p:spPr>
          <a:xfrm>
            <a:off x="38160" y="17136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 rot="271800">
            <a:off x="2814480" y="1811160"/>
            <a:ext cx="1150920" cy="316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 rot="16483800">
            <a:off x="2630880" y="309852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Logo Mondial 2012 new"/>
          <p:cNvPicPr/>
          <p:nvPr/>
        </p:nvPicPr>
        <p:blipFill>
          <a:blip r:embed="rId3"/>
          <a:stretch/>
        </p:blipFill>
        <p:spPr>
          <a:xfrm>
            <a:off x="34920" y="568656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Cj03971160000[1]"/>
          <p:cNvPicPr/>
          <p:nvPr/>
        </p:nvPicPr>
        <p:blipFill>
          <a:blip r:embed="rId4"/>
          <a:stretch/>
        </p:blipFill>
        <p:spPr>
          <a:xfrm>
            <a:off x="4427640" y="3105000"/>
            <a:ext cx="380880" cy="39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MCj03971160000[1]"/>
          <p:cNvPicPr/>
          <p:nvPr/>
        </p:nvPicPr>
        <p:blipFill>
          <a:blip r:embed="rId5"/>
          <a:stretch/>
        </p:blipFill>
        <p:spPr>
          <a:xfrm>
            <a:off x="2050920" y="1989000"/>
            <a:ext cx="381240" cy="3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MCj03971160000[1]"/>
          <p:cNvPicPr/>
          <p:nvPr/>
        </p:nvPicPr>
        <p:blipFill>
          <a:blip r:embed="rId6"/>
          <a:stretch/>
        </p:blipFill>
        <p:spPr>
          <a:xfrm>
            <a:off x="1908000" y="400536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4211640" y="355140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 rot="16414800">
            <a:off x="1619640" y="292284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Alternate DZ FS-AE"/>
          <p:cNvPicPr/>
          <p:nvPr/>
        </p:nvPicPr>
        <p:blipFill>
          <a:blip r:embed="rId1"/>
          <a:stretch/>
        </p:blipFill>
        <p:spPr>
          <a:xfrm>
            <a:off x="1893960" y="0"/>
            <a:ext cx="7250040" cy="682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Logo Mondial 2012 new"/>
          <p:cNvPicPr/>
          <p:nvPr/>
        </p:nvPicPr>
        <p:blipFill>
          <a:blip r:embed="rId3"/>
          <a:stretch/>
        </p:blipFill>
        <p:spPr>
          <a:xfrm>
            <a:off x="66600" y="5543640"/>
            <a:ext cx="1616040" cy="838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-26640" y="2031840"/>
            <a:ext cx="1732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itional Drop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dial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mation Skydiving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 rot="2455200">
            <a:off x="6516720" y="2997000"/>
            <a:ext cx="1008000" cy="1512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 rot="18775800">
            <a:off x="6333120" y="350964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MCj03971160000[1]"/>
          <p:cNvPicPr/>
          <p:nvPr/>
        </p:nvPicPr>
        <p:blipFill>
          <a:blip r:embed="rId4"/>
          <a:stretch/>
        </p:blipFill>
        <p:spPr>
          <a:xfrm>
            <a:off x="5859360" y="310500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5643000" y="280656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MCj03971160000[1]"/>
          <p:cNvPicPr/>
          <p:nvPr/>
        </p:nvPicPr>
        <p:blipFill>
          <a:blip r:embed="rId5"/>
          <a:stretch/>
        </p:blipFill>
        <p:spPr>
          <a:xfrm>
            <a:off x="6423120" y="2492280"/>
            <a:ext cx="3808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3:40:15Z</dcterms:created>
  <dc:creator>H. Schlecht</dc:creator>
  <dc:description/>
  <dc:language>en-US</dc:language>
  <cp:lastModifiedBy>Liam</cp:lastModifiedBy>
  <dcterms:modified xsi:type="dcterms:W3CDTF">2012-10-24T10:18:25Z</dcterms:modified>
  <cp:revision>10</cp:revision>
  <dc:subject/>
  <dc:title>Folie 1</dc:title>
</cp:coreProperties>
</file>