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E6085-8CD6-40BD-A8A7-4F6F6CDEC1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E8A35-5AE7-4836-8402-93BE7DCBD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F30D-BAFA-44DC-A73C-525E67FF4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F360-FBCD-42EF-9DEE-FE28D02F2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587E-BA27-4A4E-A99B-888FED7BA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AD5C-18EA-47D0-BE3A-644413885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D801A-06C5-4EAC-86D5-2804E80B5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61663-BFFB-4A2E-9058-CECAB84F2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98CCD-0719-44D9-84C9-BB3EBD442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23BB5-E342-4D4D-8C2C-09ED34BB2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2D4A3-8DA9-4477-A972-168EF20E4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A7A3D-A454-4EB3-9A56-D10C759D4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D3433-9A41-46CB-A57F-BA6B9DAE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E438-7C24-47F2-97A6-F843744EC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7784C-F84E-4D6C-B511-34A91006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D4AC0-6256-43FD-B231-01BE8222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0EB57-671A-459F-8C7B-C577E28A1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88501-2C8A-44DA-B420-28F4F93C8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DCA46-3A46-4FCE-9D12-7F0338F43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6006F-5C13-4C00-B6FE-AF6EE641C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5B723-5E61-480D-9FF8-2A9A6CEAA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6F84D-0422-4762-9365-7F76189BB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7E93E-3628-4C93-BFA7-651520DDD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59FA8-B654-46E6-9194-D9F2487A7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58DF-BC43-48AC-9129-6746DCD94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F3D0F-A635-44BF-8AB9-781C256CD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5DBBA-0B9B-490A-A827-364904C6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E3B4E-AA63-4958-9BB2-CD3B3188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AED66-F053-4556-8927-02051287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4EDB4-03F5-420D-BCB3-922CC8F14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CA9E0-8D4C-4306-B30D-7C603C6E9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A8F7B-C9AB-46F8-8E88-D559D2F9A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152D1-EFBA-4E62-A965-39F4A1821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1F182-C1A4-485D-8FA5-C2EDEAAC3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BF6A9-C387-49BE-A77C-6AB579193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A89D-1C5D-4267-ABC8-45A9FCEC9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CA91C-6CA1-42E0-96E7-C7DFB245E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B554F-C3ED-4C50-882D-0A68A490E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9808B-AD00-4F23-AA24-91D0C7CD1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B34EC-F926-4ACF-9818-B538A06A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F6BA7-A9D2-4C80-ABDF-BF67A2E5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61403-CABE-444A-A174-80765332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2176D-9F68-4B7B-9E07-11A3B8E28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61947-E81D-48CB-B44E-D8354C09C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75A72-44F4-444D-9836-AE14B7BE4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3E4A-0936-4E3A-9891-0A157B88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808A-1D2C-4838-83D5-254B5D7F8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C40D-04F6-445A-9889-B55B94E1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D11B-BAB5-4C67-9D84-D21AAFA3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633C-3415-4BFC-8866-0053C1B4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DDE28-CA33-4A8E-BE9C-AEF8CB82183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2F204-9106-4051-9457-5CBE9E72D60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DA7B1-52FB-4674-A47B-24D0399BC3A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E856A-F75F-4747-9552-EF15C3A8242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who request copi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CD has the following material -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4 Safety Survey Report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4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5 Form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5 Notes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s (3) issued in 2015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4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5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7 countries responded, from a possible approximately 85, a response rate of 44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7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4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7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237,725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14,867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31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three Tandem fatalities in 2014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01,207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42,415 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31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(10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7 Intermediate   (2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1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(6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25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25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640"/>
            <a:ext cx="69836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ast Canopies - 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Reserve bridle entanglement with camera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elmet after unstable reserve activat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Issu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ain malfunction, no action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ow radical turn, high impact with water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using lung damage and death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stability, no Main deployment, AAD activated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reserve, freebag caught on jumper, insufficien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eight for reserve deployment, reserve lines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rapped under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jumper’s arm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  1       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25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6 - 19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relates issu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nd Canopy Collision – each at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4 – 13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3 – 10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2 (39% of total fatalities, 31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31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0 (65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1 (35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5 (16%) might have been avoided by AAD us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3 (74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None of the 2014 Fatalities were First Jump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2 (39% of 31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640"/>
            <a:ext cx="8229600" cy="334152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9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075,020 Solo jumps – 1,162,705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3 ; Solo Fatalities 28 (31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6-01-14T20:42:49Z</dcterms:modified>
  <cp:revision>105</cp:revision>
  <dc:subject/>
  <dc:title>SAFETY &amp; TRAINING FORUM 25 January 2003</dc:title>
</cp:coreProperties>
</file>