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embeddings/oleObject1.xlsx" ContentType="application/vnd.openxmlformats-officedocument.spreadsheetml.shee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66249E-E90E-41E2-9BB4-D60EC7C8D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AF07AC-0C74-45ED-8D28-8E0A903FD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B320D8-AE46-4052-BD3D-5ACD131A3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941E6F-DCAA-44A1-AB15-51870D1AC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9F5A0-B6E8-4092-A43B-BD21EE35F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8D3B0-E53B-44D2-802F-0159FD23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C4560C-6F3D-4CE0-9E9B-230E0ABCC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DA25C-7E46-4CFE-BFB2-284C8792D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29E17-A01E-41CD-8222-6423CE8D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1B146E-9C14-4EC0-8CA8-6E31B01A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6015B4-787A-4457-BEB9-B7E0A4C28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B15A8F-DD73-442D-A8FE-C4829BD45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988BD00-3F96-4705-8FE9-A8BC611BD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BADFC3E-8CF8-4B25-90DB-41150792B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A21C2C-8A6C-4BF5-BC20-3289ED420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4B5A63C-E359-4BC6-937B-0AEDE010D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07EC1E-4CB1-467B-9D9B-1531FD8FF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D979F2-7374-4F92-8F43-52C6C259F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71C2A6-5A0A-4104-B79B-FC6EE0622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90C4865-90C8-4FF8-96B5-3260CF984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C0810A-FA3E-4301-8CCA-8F40D62E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668797-FB2A-46BD-BA9E-C09759287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5ACD2C2-D23D-4A59-B578-D851CFBA1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D38C0C1-41C9-4412-B0C9-FBAFEACCC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FD3481-5F95-4DB7-98BF-BBC810623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41C52A-A620-443A-8E77-25D1C23FA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5C83A9-8741-4097-9A5D-EE0A4AFCF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0D1630-F2A2-40B2-A835-7939A55A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E53AEC9-2014-4280-A523-F4713A345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332922-AFCB-4D1D-AD1C-650072F3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1C1CC5A-D8FF-42A1-9FFD-1FC5BB40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F0BF30-D31D-4FFE-8232-2C734C532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411CADD-5180-47F6-8A78-74FA80980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8E25B9-CA0D-4396-8961-2E394A16B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1E008D-6D32-46FD-8C2F-6B79DE91D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C3D4A3-F3EC-4D13-8FCD-C2D8F10D7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79673CA-9957-4F4A-B690-E0FE52925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4586AF-4A4F-428E-99E1-087EEB37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36610DA-B29E-423F-ABF6-1E6014EB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947502-4F43-4F1D-B079-6E8BBB660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97E50BB-5853-451B-894C-E25E8FCD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768300F-2771-40BA-A5FD-BA98486E6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397D2E7-49B8-42AF-8838-A9C5A839D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528046-533A-47F1-8506-F57EB07B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F946B12-CF21-41D0-B60F-FF51CD53C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678AE0-0CFA-4F6F-9C76-A4DEC45A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81219A7-6C0A-42F2-A863-D884E32CC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66356B5-03A8-42E1-82EC-F69973D6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EE5E2-2B3D-4907-A1B2-0C49174CA17B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3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5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879C8-E919-4F15-876E-602E9EA52535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6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1447-DEBF-4FB7-8FC3-494F01941C66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7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634F6-3865-4926-897D-13B41DAA50EF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0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7EC5-F7C2-4234-AFA5-CF0174902EB0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traight Connector 7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Straight Connector 10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traight Connector 11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12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13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4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E950-4B7C-4BD5-B215-958CCB779B87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844CE-C509-4122-A688-6C3148974C96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4C24B-21C1-4311-A660-2093B05EE77B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2FF7-9A67-46C1-9BEE-21F0C08FD9A8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79F87-CF00-44E4-9F65-AAFB980F496F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1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F5B1A-82BB-4F94-A1AC-3EBE06FEC256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6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2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48E88-4688-42E5-835E-23331AE4CD09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2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inancing Option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3"/>
          <p:cNvSpPr/>
          <p:nvPr/>
        </p:nvSpPr>
        <p:spPr>
          <a:xfrm>
            <a:off x="5219640" y="256536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4"/>
          <p:cNvSpPr/>
          <p:nvPr/>
        </p:nvSpPr>
        <p:spPr>
          <a:xfrm>
            <a:off x="826920" y="2563920"/>
            <a:ext cx="3168720" cy="108108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sponso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ectangle 5"/>
          <p:cNvSpPr/>
          <p:nvPr/>
        </p:nvSpPr>
        <p:spPr>
          <a:xfrm>
            <a:off x="471636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xternal inves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ectangle 6"/>
          <p:cNvSpPr/>
          <p:nvPr/>
        </p:nvSpPr>
        <p:spPr>
          <a:xfrm>
            <a:off x="6948360" y="4724280"/>
            <a:ext cx="2016360" cy="1224000"/>
          </a:xfrm>
          <a:prstGeom prst="rect">
            <a:avLst/>
          </a:prstGeom>
          <a:solidFill>
            <a:srgbClr val="e076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ffffff"/>
                </a:solidFill>
                <a:latin typeface="Century Gothic"/>
              </a:rPr>
              <a:t>internal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FAI/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NA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ffffff"/>
                </a:solidFill>
                <a:latin typeface="Century Gothic"/>
              </a:rPr>
              <a:t>event organiz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7"/>
          <p:cNvSpPr/>
          <p:nvPr/>
        </p:nvSpPr>
        <p:spPr>
          <a:xfrm>
            <a:off x="2411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a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8"/>
          <p:cNvSpPr/>
          <p:nvPr/>
        </p:nvSpPr>
        <p:spPr>
          <a:xfrm>
            <a:off x="179280" y="4724280"/>
            <a:ext cx="2016360" cy="12240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spon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" name="AutoShape 9"/>
          <p:cNvCxnSpPr>
            <a:stCxn id="390" idx="2"/>
            <a:endCxn id="394" idx="0"/>
          </p:cNvCxnSpPr>
          <p:nvPr/>
        </p:nvCxnSpPr>
        <p:spPr>
          <a:xfrm rot="5400000">
            <a:off x="1258920" y="3572640"/>
            <a:ext cx="1080000" cy="1224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6" name="AutoShape 10"/>
          <p:cNvCxnSpPr>
            <a:stCxn id="390" idx="2"/>
            <a:endCxn id="393" idx="0"/>
          </p:cNvCxnSpPr>
          <p:nvPr/>
        </p:nvCxnSpPr>
        <p:spPr>
          <a:xfrm flipH="1" rot="16200000">
            <a:off x="2374560" y="3680280"/>
            <a:ext cx="1080000" cy="1008720"/>
          </a:xfrm>
          <a:prstGeom prst="bentConnector3">
            <a:avLst>
              <a:gd name="adj1" fmla="val 49849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7" name="AutoShape 11"/>
          <p:cNvCxnSpPr>
            <a:stCxn id="389" idx="2"/>
            <a:endCxn id="391" idx="0"/>
          </p:cNvCxnSpPr>
          <p:nvPr/>
        </p:nvCxnSpPr>
        <p:spPr>
          <a:xfrm rot="5400000">
            <a:off x="5724720" y="3645360"/>
            <a:ext cx="1078200" cy="108036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8" name="AutoShape 12"/>
          <p:cNvCxnSpPr>
            <a:stCxn id="389" idx="2"/>
            <a:endCxn id="392" idx="0"/>
          </p:cNvCxnSpPr>
          <p:nvPr/>
        </p:nvCxnSpPr>
        <p:spPr>
          <a:xfrm flipH="1" rot="16200000">
            <a:off x="6841440" y="3608640"/>
            <a:ext cx="1078200" cy="1153440"/>
          </a:xfrm>
          <a:prstGeom prst="bentConnector3">
            <a:avLst>
              <a:gd name="adj1" fmla="val 49933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399" name="AutoShape 13"/>
          <p:cNvCxnSpPr>
            <a:stCxn id="388" idx="2"/>
            <a:endCxn id="390" idx="0"/>
          </p:cNvCxnSpPr>
          <p:nvPr/>
        </p:nvCxnSpPr>
        <p:spPr>
          <a:xfrm rot="5400000">
            <a:off x="3170880" y="1278000"/>
            <a:ext cx="526320" cy="2046960"/>
          </a:xfrm>
          <a:prstGeom prst="bentConnector3">
            <a:avLst>
              <a:gd name="adj1" fmla="val 49828"/>
            </a:avLst>
          </a:prstGeom>
          <a:ln w="19080">
            <a:solidFill>
              <a:srgbClr val="000000"/>
            </a:solidFill>
            <a:miter/>
          </a:ln>
        </p:spPr>
      </p:cxnSp>
      <p:cxnSp>
        <p:nvCxnSpPr>
          <p:cNvPr id="400" name="AutoShape 14"/>
          <p:cNvCxnSpPr>
            <a:stCxn id="388" idx="2"/>
            <a:endCxn id="389" idx="0"/>
          </p:cNvCxnSpPr>
          <p:nvPr/>
        </p:nvCxnSpPr>
        <p:spPr>
          <a:xfrm flipH="1" rot="16200000">
            <a:off x="5366520" y="1128600"/>
            <a:ext cx="527760" cy="2346840"/>
          </a:xfrm>
          <a:prstGeom prst="bentConnector3">
            <a:avLst>
              <a:gd name="adj1" fmla="val 49965"/>
            </a:avLst>
          </a:prstGeom>
          <a:ln w="1908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AutoShape 6"/>
          <p:cNvSpPr/>
          <p:nvPr/>
        </p:nvSpPr>
        <p:spPr>
          <a:xfrm>
            <a:off x="2627280" y="2565360"/>
            <a:ext cx="1008000" cy="422280"/>
          </a:xfrm>
          <a:prstGeom prst="rightArrow">
            <a:avLst>
              <a:gd name="adj1" fmla="val 56463"/>
              <a:gd name="adj2" fmla="val 6691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AutoShape 11"/>
          <p:cNvSpPr/>
          <p:nvPr/>
        </p:nvSpPr>
        <p:spPr>
          <a:xfrm>
            <a:off x="2627280" y="380052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AutoShape 12"/>
          <p:cNvSpPr/>
          <p:nvPr/>
        </p:nvSpPr>
        <p:spPr>
          <a:xfrm rot="10800000">
            <a:off x="2627280" y="40640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utoShape 13"/>
          <p:cNvSpPr/>
          <p:nvPr/>
        </p:nvSpPr>
        <p:spPr>
          <a:xfrm>
            <a:off x="2627280" y="487980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b170"/>
          </a:solidFill>
          <a:ln w="25560">
            <a:solidFill>
              <a:srgbClr val="ffffff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14"/>
          <p:cNvSpPr/>
          <p:nvPr/>
        </p:nvSpPr>
        <p:spPr>
          <a:xfrm rot="10800000">
            <a:off x="2627280" y="5143320"/>
            <a:ext cx="1008000" cy="301320"/>
          </a:xfrm>
          <a:prstGeom prst="rightArrow">
            <a:avLst>
              <a:gd name="adj1" fmla="val 40093"/>
              <a:gd name="adj2" fmla="val 93776"/>
            </a:avLst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AutoShape 19"/>
          <p:cNvSpPr/>
          <p:nvPr/>
        </p:nvSpPr>
        <p:spPr>
          <a:xfrm>
            <a:off x="5580000" y="228744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utoShape 20"/>
          <p:cNvSpPr/>
          <p:nvPr/>
        </p:nvSpPr>
        <p:spPr>
          <a:xfrm rot="10800000">
            <a:off x="5580000" y="2550960"/>
            <a:ext cx="1008000" cy="301680"/>
          </a:xfrm>
          <a:prstGeom prst="rightArrow">
            <a:avLst>
              <a:gd name="adj1" fmla="val 40093"/>
              <a:gd name="adj2" fmla="val 93664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24"/>
          <p:cNvGrpSpPr/>
          <p:nvPr/>
        </p:nvGrpSpPr>
        <p:grpSpPr>
          <a:xfrm>
            <a:off x="5580000" y="3530520"/>
            <a:ext cx="1008000" cy="545400"/>
            <a:chOff x="5580000" y="3530520"/>
            <a:chExt cx="1008000" cy="545400"/>
          </a:xfrm>
        </p:grpSpPr>
        <p:sp>
          <p:nvSpPr>
            <p:cNvPr id="409" name="AutoShape 25"/>
            <p:cNvSpPr/>
            <p:nvPr/>
          </p:nvSpPr>
          <p:spPr>
            <a:xfrm>
              <a:off x="5580000" y="353052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AutoShape 26"/>
            <p:cNvSpPr/>
            <p:nvPr/>
          </p:nvSpPr>
          <p:spPr>
            <a:xfrm rot="10800000">
              <a:off x="5580000" y="37731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27"/>
          <p:cNvGrpSpPr/>
          <p:nvPr/>
        </p:nvGrpSpPr>
        <p:grpSpPr>
          <a:xfrm>
            <a:off x="5580000" y="4797360"/>
            <a:ext cx="1008000" cy="545400"/>
            <a:chOff x="5580000" y="4797360"/>
            <a:chExt cx="1008000" cy="545400"/>
          </a:xfrm>
        </p:grpSpPr>
        <p:sp>
          <p:nvSpPr>
            <p:cNvPr id="412" name="AutoShape 28"/>
            <p:cNvSpPr/>
            <p:nvPr/>
          </p:nvSpPr>
          <p:spPr>
            <a:xfrm>
              <a:off x="5580000" y="479736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AutoShape 29"/>
            <p:cNvSpPr/>
            <p:nvPr/>
          </p:nvSpPr>
          <p:spPr>
            <a:xfrm rot="10800000">
              <a:off x="5580000" y="5040000"/>
              <a:ext cx="1008000" cy="302760"/>
            </a:xfrm>
            <a:prstGeom prst="rightArrow">
              <a:avLst>
                <a:gd name="adj1" fmla="val 40093"/>
                <a:gd name="adj2" fmla="val 93330"/>
              </a:avLst>
            </a:prstGeom>
            <a:solidFill>
              <a:srgbClr val="a2b170"/>
            </a:solidFill>
            <a:ln w="25560">
              <a:solidFill>
                <a:srgbClr val="ffffff">
                  <a:alpha val="8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Business Model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3"/>
          <p:cNvSpPr/>
          <p:nvPr/>
        </p:nvSpPr>
        <p:spPr>
          <a:xfrm rot="16200000">
            <a:off x="3600360" y="3537000"/>
            <a:ext cx="3456000" cy="503280"/>
          </a:xfrm>
          <a:prstGeom prst="rect">
            <a:avLst/>
          </a:prstGeom>
          <a:solidFill>
            <a:srgbClr val="8da44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professional handl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4"/>
          <p:cNvSpPr/>
          <p:nvPr/>
        </p:nvSpPr>
        <p:spPr>
          <a:xfrm rot="16200000">
            <a:off x="2627280" y="3068640"/>
            <a:ext cx="3457440" cy="1441440"/>
          </a:xfrm>
          <a:prstGeom prst="rect">
            <a:avLst/>
          </a:prstGeom>
          <a:solidFill>
            <a:srgbClr val="a2c81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 p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FAI/CIA ow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5"/>
          <p:cNvSpPr/>
          <p:nvPr/>
        </p:nvSpPr>
        <p:spPr>
          <a:xfrm>
            <a:off x="6588000" y="206064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7"/>
          <p:cNvSpPr/>
          <p:nvPr/>
        </p:nvSpPr>
        <p:spPr>
          <a:xfrm>
            <a:off x="826920" y="5805360"/>
            <a:ext cx="7632720" cy="0"/>
          </a:xfrm>
          <a:prstGeom prst="line">
            <a:avLst/>
          </a:prstGeom>
          <a:ln w="316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8"/>
          <p:cNvSpPr/>
          <p:nvPr/>
        </p:nvSpPr>
        <p:spPr>
          <a:xfrm>
            <a:off x="900000" y="2060640"/>
            <a:ext cx="1727280" cy="13302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AI/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0 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ectangle 9"/>
          <p:cNvSpPr/>
          <p:nvPr/>
        </p:nvSpPr>
        <p:spPr>
          <a:xfrm>
            <a:off x="900000" y="479124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7"/>
          <p:cNvSpPr/>
          <p:nvPr/>
        </p:nvSpPr>
        <p:spPr>
          <a:xfrm>
            <a:off x="1951200" y="5967360"/>
            <a:ext cx="155232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inves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free 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ectangle 21"/>
          <p:cNvSpPr/>
          <p:nvPr/>
        </p:nvSpPr>
        <p:spPr>
          <a:xfrm>
            <a:off x="900000" y="3711600"/>
            <a:ext cx="1727280" cy="72540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NAC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22"/>
          <p:cNvSpPr/>
          <p:nvPr/>
        </p:nvSpPr>
        <p:spPr>
          <a:xfrm>
            <a:off x="6588000" y="3327480"/>
            <a:ext cx="1800360" cy="9651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3"/>
          <p:cNvSpPr/>
          <p:nvPr/>
        </p:nvSpPr>
        <p:spPr>
          <a:xfrm>
            <a:off x="6588000" y="4549680"/>
            <a:ext cx="1800360" cy="966960"/>
          </a:xfrm>
          <a:prstGeom prst="rect">
            <a:avLst/>
          </a:prstGeom>
          <a:solidFill>
            <a:srgbClr val="bbc0a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even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utoShape 30"/>
          <p:cNvSpPr/>
          <p:nvPr/>
        </p:nvSpPr>
        <p:spPr>
          <a:xfrm>
            <a:off x="7313760" y="5983200"/>
            <a:ext cx="1008000" cy="327240"/>
          </a:xfrm>
          <a:prstGeom prst="rightArrow">
            <a:avLst>
              <a:gd name="adj1" fmla="val 40093"/>
              <a:gd name="adj2" fmla="val 86348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utoShape 31"/>
          <p:cNvSpPr/>
          <p:nvPr/>
        </p:nvSpPr>
        <p:spPr>
          <a:xfrm rot="10800000">
            <a:off x="7242120" y="626220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32"/>
          <p:cNvSpPr/>
          <p:nvPr/>
        </p:nvSpPr>
        <p:spPr>
          <a:xfrm>
            <a:off x="5883120" y="5950080"/>
            <a:ext cx="1415160" cy="6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de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Century Gothic"/>
              </a:rPr>
              <a:t>rents 30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34"/>
          <p:cNvSpPr/>
          <p:nvPr/>
        </p:nvSpPr>
        <p:spPr>
          <a:xfrm>
            <a:off x="678960" y="1722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contribu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35"/>
          <p:cNvSpPr/>
          <p:nvPr/>
        </p:nvSpPr>
        <p:spPr>
          <a:xfrm>
            <a:off x="7734600" y="1722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utoShape 36"/>
          <p:cNvSpPr/>
          <p:nvPr/>
        </p:nvSpPr>
        <p:spPr>
          <a:xfrm>
            <a:off x="977760" y="5975280"/>
            <a:ext cx="1008360" cy="327240"/>
          </a:xfrm>
          <a:prstGeom prst="rightArrow">
            <a:avLst>
              <a:gd name="adj1" fmla="val 40093"/>
              <a:gd name="adj2" fmla="val 86379"/>
            </a:avLst>
          </a:prstGeom>
          <a:solidFill>
            <a:srgbClr val="e07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37"/>
          <p:cNvSpPr/>
          <p:nvPr/>
        </p:nvSpPr>
        <p:spPr>
          <a:xfrm rot="10800000">
            <a:off x="906480" y="6254280"/>
            <a:ext cx="1008000" cy="360360"/>
          </a:xfrm>
          <a:prstGeom prst="rightArrow">
            <a:avLst>
              <a:gd name="adj1" fmla="val 40093"/>
              <a:gd name="adj2" fmla="val 78412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38"/>
          <p:cNvSpPr/>
          <p:nvPr/>
        </p:nvSpPr>
        <p:spPr>
          <a:xfrm rot="16200000">
            <a:off x="168120" y="610344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bbc0ac"/>
                </a:solidFill>
                <a:latin typeface="Century Gothic"/>
              </a:rPr>
              <a:t>lege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a Contributing NAC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114560" y="2998440"/>
            <a:ext cx="76104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Example: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NAC 1 runs nationals with 40 competitors every year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wants to contribute with 20 logger to the device pool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  <p:grpSp>
        <p:nvGrpSpPr>
          <p:cNvPr id="435" name="Group 7"/>
          <p:cNvGrpSpPr/>
          <p:nvPr/>
        </p:nvGrpSpPr>
        <p:grpSpPr>
          <a:xfrm>
            <a:off x="1211400" y="2276640"/>
            <a:ext cx="7464240" cy="696240"/>
            <a:chOff x="1211400" y="2276640"/>
            <a:chExt cx="7464240" cy="696240"/>
          </a:xfrm>
        </p:grpSpPr>
        <p:sp>
          <p:nvSpPr>
            <p:cNvPr id="436" name="Rectangle 6"/>
            <p:cNvSpPr/>
            <p:nvPr/>
          </p:nvSpPr>
          <p:spPr>
            <a:xfrm>
              <a:off x="1258920" y="2323800"/>
              <a:ext cx="7416720" cy="649080"/>
            </a:xfrm>
            <a:prstGeom prst="rect">
              <a:avLst/>
            </a:prstGeom>
            <a:solidFill>
              <a:srgbClr val="4c4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Rectangle 5"/>
            <p:cNvSpPr/>
            <p:nvPr/>
          </p:nvSpPr>
          <p:spPr>
            <a:xfrm>
              <a:off x="1211400" y="2276640"/>
              <a:ext cx="7416720" cy="648720"/>
            </a:xfrm>
            <a:prstGeom prst="rect">
              <a:avLst/>
            </a:prstGeom>
            <a:solidFill>
              <a:srgbClr val="a2c81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800" spc="-1" strike="noStrike">
                  <a:solidFill>
                    <a:srgbClr val="000000"/>
                  </a:solidFill>
                  <a:latin typeface="Century Gothic"/>
                </a:rPr>
                <a:t>contribute to the device pool and get 20 free rents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438" name=""/>
          <p:cNvGraphicFramePr/>
          <p:nvPr/>
        </p:nvGraphicFramePr>
        <p:xfrm>
          <a:off x="1260360" y="4483080"/>
          <a:ext cx="3456000" cy="1614600"/>
        </p:xfrm>
        <a:graphic>
          <a:graphicData uri="http://schemas.openxmlformats.org/drawingml/2006/table">
            <a:tbl>
              <a:tblPr/>
              <a:tblGrid>
                <a:gridCol w="1366920"/>
                <a:gridCol w="649440"/>
                <a:gridCol w="1439640"/>
              </a:tblGrid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invest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ffffff"/>
                          </a:solidFill>
                          <a:latin typeface="Century Gothic"/>
                        </a:rPr>
                        <a:t>benef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a2c816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x 20 = 400 free ren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20 logger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530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400 free rents </a:t>
                      </a:r>
                      <a:br>
                        <a:rPr sz="1200"/>
                      </a:br>
                      <a:r>
                        <a:rPr b="0" lang="de-CH" sz="12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x 30 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5e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0‘6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CH" sz="1400" spc="-1" strike="noStrike">
                          <a:solidFill>
                            <a:srgbClr val="595959"/>
                          </a:solidFill>
                          <a:latin typeface="Century Gothic"/>
                        </a:rPr>
                        <a:t>12‘000€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  <p:sp>
        <p:nvSpPr>
          <p:cNvPr id="439" name="AutoShape 35"/>
          <p:cNvSpPr/>
          <p:nvPr/>
        </p:nvSpPr>
        <p:spPr>
          <a:xfrm>
            <a:off x="2627280" y="5789520"/>
            <a:ext cx="649440" cy="231840"/>
          </a:xfrm>
          <a:prstGeom prst="leftRightArrow">
            <a:avLst>
              <a:gd name="adj1" fmla="val 50000"/>
              <a:gd name="adj2" fmla="val 55765"/>
            </a:avLst>
          </a:prstGeom>
          <a:solidFill>
            <a:srgbClr val="a2c8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ectangle 61"/>
          <p:cNvSpPr/>
          <p:nvPr/>
        </p:nvSpPr>
        <p:spPr>
          <a:xfrm>
            <a:off x="4932360" y="4365720"/>
            <a:ext cx="38163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use the loggers in the next 10 events for f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can play an active role in the ballooning comm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has priority access to the poo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NAC 1 doesn‘t neet to care about mainten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Professional Hand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responsibilitie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shipp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invoice processing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function checks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minor mainenance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95959"/>
                </a:solidFill>
                <a:latin typeface="Century Gothic"/>
              </a:rPr>
              <a:t>compensation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by case (directly paid by event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Century Gothic"/>
              </a:rPr>
              <a:t>on a yearly basis (minor amount paid by device pool)</a:t>
            </a: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95959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989600" y="2595240"/>
            <a:ext cx="37353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Century Gothic"/>
              </a:rPr>
              <a:t>profile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company with experience in international shipping / customs handling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referably with link to ballooning commun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already two potential volunteer companies available in EU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ase for FAI/CI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5" name="Group 20"/>
          <p:cNvGrpSpPr/>
          <p:nvPr/>
        </p:nvGrpSpPr>
        <p:grpSpPr>
          <a:xfrm>
            <a:off x="5219640" y="2457360"/>
            <a:ext cx="3744360" cy="2411640"/>
            <a:chOff x="5219640" y="2457360"/>
            <a:chExt cx="3744360" cy="2411640"/>
          </a:xfrm>
        </p:grpSpPr>
        <p:graphicFrame>
          <p:nvGraphicFramePr>
            <p:cNvPr id="446" name=""/>
            <p:cNvGraphicFramePr/>
            <p:nvPr/>
          </p:nvGraphicFramePr>
          <p:xfrm>
            <a:off x="5219640" y="2560680"/>
            <a:ext cx="3144960" cy="230832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4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219640" y="2560680"/>
                      <a:ext cx="3144960" cy="230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48" name="Text Box 4"/>
            <p:cNvSpPr/>
            <p:nvPr/>
          </p:nvSpPr>
          <p:spPr>
            <a:xfrm>
              <a:off x="7739280" y="4071960"/>
              <a:ext cx="1224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   </a:t>
              </a: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amort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Text Box 5"/>
            <p:cNvSpPr/>
            <p:nvPr/>
          </p:nvSpPr>
          <p:spPr>
            <a:xfrm>
              <a:off x="5526360" y="4060800"/>
              <a:ext cx="810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renewal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fu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Text Box 6"/>
            <p:cNvSpPr/>
            <p:nvPr/>
          </p:nvSpPr>
          <p:spPr>
            <a:xfrm>
              <a:off x="6180480" y="2457360"/>
              <a:ext cx="811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handling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Text Box 7"/>
            <p:cNvSpPr/>
            <p:nvPr/>
          </p:nvSpPr>
          <p:spPr>
            <a:xfrm>
              <a:off x="5410080" y="2778120"/>
              <a:ext cx="109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CH" sz="1600" spc="-1" strike="noStrike">
                  <a:solidFill>
                    <a:srgbClr val="000000"/>
                  </a:solidFill>
                  <a:latin typeface="Arial Narrow"/>
                </a:rPr>
                <a:t>mainenan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8"/>
            <p:cNvSpPr/>
            <p:nvPr/>
          </p:nvSpPr>
          <p:spPr>
            <a:xfrm>
              <a:off x="6951600" y="2624040"/>
              <a:ext cx="1285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9"/>
            <p:cNvSpPr/>
            <p:nvPr/>
          </p:nvSpPr>
          <p:spPr>
            <a:xfrm>
              <a:off x="6375240" y="3008160"/>
              <a:ext cx="192240" cy="19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0"/>
          <p:cNvSpPr/>
          <p:nvPr/>
        </p:nvSpPr>
        <p:spPr>
          <a:xfrm>
            <a:off x="1116000" y="2205000"/>
            <a:ext cx="4248000" cy="46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benefits out of 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ealthy and sustainable bussiness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high return on inves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money payback time: 3.5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additional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000000"/>
                </a:solidFill>
                <a:latin typeface="Century Gothic"/>
              </a:rPr>
              <a:t>possible future revenu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licence fees through selling of de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336600">
              <a:lnSpc>
                <a:spcPct val="10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400" spc="-1" strike="noStrike">
                <a:solidFill>
                  <a:srgbClr val="000000"/>
                </a:solidFill>
                <a:latin typeface="Century Gothic"/>
                <a:ea typeface="ＭＳ Ｐゴシック"/>
              </a:rPr>
              <a:t>opportunities for partnerships with media and spons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600" spc="-1" strike="noStrike">
                <a:solidFill>
                  <a:srgbClr val="595959"/>
                </a:solidFill>
                <a:latin typeface="Century Gothic"/>
              </a:rPr>
              <a:t>ensure quality, fairness and attractivity of ballooning s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7"/>
          <p:cNvSpPr/>
          <p:nvPr/>
        </p:nvSpPr>
        <p:spPr>
          <a:xfrm>
            <a:off x="826920" y="5200560"/>
            <a:ext cx="31687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18"/>
          <p:cNvSpPr/>
          <p:nvPr/>
        </p:nvSpPr>
        <p:spPr>
          <a:xfrm>
            <a:off x="7020000" y="2276640"/>
            <a:ext cx="1944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77840" indent="-177840" algn="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use of income</a:t>
            </a:r>
            <a:br>
              <a:rPr sz="1600"/>
            </a:br>
            <a:r>
              <a:rPr b="1" lang="de-CH" sz="1600" spc="-1" strike="noStrike">
                <a:solidFill>
                  <a:srgbClr val="595959"/>
                </a:solidFill>
                <a:latin typeface="Century Gothic"/>
              </a:rPr>
              <a:t>rental mod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ealthy business model 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ustainable projec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positive project for our ballooning sport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fairnes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nsure quality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permit additional tasks (FON / PDG)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lvl="1" marL="671760" indent="-329760">
              <a:lnSpc>
                <a:spcPct val="90000"/>
              </a:lnSpc>
              <a:spcBef>
                <a:spcPts val="1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entury Gothic"/>
              </a:rPr>
              <a:t>electronic marks</a:t>
            </a:r>
            <a:endParaRPr b="0" lang="en-US" sz="18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new posibilities for media partnership / sponsorship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1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uture additional revenues</a:t>
            </a: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08:27Z</dcterms:modified>
  <cp:revision>79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