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5A37-66D5-4975-8FF5-1FF46A470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7BFF-6ECB-4E0E-BCF8-67394278A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E0DE2B-EB34-404E-B0BD-65D4DC7B9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4AB0-558C-47AB-B999-34DE23858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1E54181-B62D-4B42-B2D7-8805451E4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0FE20FC-88CB-4BE9-AA87-7653AE7C0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C3A1B5E-570C-470D-A91E-F43ED2E96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34D8D83-7524-4F32-A6E3-970F62A30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E0403E5-FAB4-4F4A-A595-5A1736511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DFBC0C0-D47A-45AA-8088-D8092A13C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C37D6E-AE9B-4D60-82A3-8FFACBDB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9BB18D8-ACAB-4FC4-B8CB-798D52476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7E4FD41-AD8C-47D1-9147-B1F3CC18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A02F7F6-1D47-4B9E-BB18-CCF3EA166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436-9D66-4B56-96E8-7943710C6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F1FE95B-5C60-4354-97F2-FA46623A3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B05FCC-22EE-4646-A100-9D9B93F1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4E446C8-5530-448D-AF33-77660C7D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35FB16-FA06-49DB-AA14-64AEE37C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B9C0631-1201-4FB9-A9CA-25C68F1C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64943EB-086C-4B33-BBB9-479BBB767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73B72E7-F554-4457-979C-305C41039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7CCFF0F-B234-447C-A957-7E61F8144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0FC468-1D1D-4992-84C2-DC03D0B59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FE39281-F471-4422-A744-5A1541BA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73DC3-F157-4AB2-A2D9-963C2923F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C1CEC45-B47A-40AA-A55C-54251DA6C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F3A848-0B82-492D-8E21-1DF4C7DE7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CB92178-71B3-4127-8A99-713A5897E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B1E4-7BBB-4C05-84D5-433669402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6FF2-CA3C-4CE4-A479-1473C25B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17AC3-85F7-4755-8C63-859AA8D26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526E0-593C-4092-AD88-265347C83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6A14-933E-465D-B63B-1E379F37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2CB34-55C5-4FE7-8EA9-BE81C582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BBAD-CD58-474D-87E6-8B4576EDA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91E20-F5CA-494F-BB61-881EEB3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599A1-C55B-4E0A-9978-42BA4912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0909-2B1D-4E32-BF68-2FF2DCC13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33D0E-082E-45E8-9CAB-A608EFF94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B0C2-44D8-4E53-B55A-2F7BDDC4D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6E53-1D28-4612-A156-36FB06929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487FCC-6F08-488E-A607-EF6EAE90B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AD8B7ED-60C3-4407-B56A-2C2ECB3AB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6D7A30B-EDDE-4604-9B12-BF6B080C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F9E2-2592-485E-B97C-804C89DB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1C903C-DCC4-4544-BB8A-921A10C54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3C6D05-C643-4B80-BC26-9F198E66D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44C7E22-381B-41CA-BCE1-4A2926E0E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BDE76A-F017-47A5-93C4-2E87A0D38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DC985F-BD54-4E24-A2A0-D65306F16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A212B0-136B-42C3-8168-120CD03A1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BF75B2-F8E0-4367-B69B-D4BDD61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5D373CB-1B33-4AC5-953F-EFEE5F53D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652A99-D2EE-4D7E-AAC2-6635D59E2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4BBB5C-16F1-4A1D-9A36-4FD389B8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C392-CFF1-46F4-9433-E77E29BA8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4F1B61-FF6A-405B-B6A4-3899C3074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78632F-AA69-458F-843D-9E36E258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AE7B03-1DD8-4F1C-AEB2-E62267B20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878AD55-1B1C-4533-B7AD-ECBDECE6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BF6361-3401-4FC6-AC7D-B5A06B7C3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DF19CF-652C-4E9C-A199-A256CE10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43EB4F-B940-43DA-B2E9-3C58B4E3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65A2CA-123B-49A5-8AB7-7BC84066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0EC8AE-53DB-436B-B14D-15158EFC8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E6C93B-23D9-44CF-A6DD-8E0CDE758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DB7-DBF2-496E-8363-8BB4B15B6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18DCBA3-1410-4F52-97B4-4123E9E02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AD69259-865D-4C51-8EB7-650663620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A80F53-9487-4CD7-B7A9-CD48B94A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FE4ADB9-1FF3-416D-A04D-314B23D91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34AB13-7F50-41BE-A620-F680CFCD3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4B626E4-587F-4E4E-AAA8-EED317B0D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77DA37-45F3-4F75-B778-4B6B9FDE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413616-EAAC-4D9A-AD43-22197EE9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43FCCB-2B7F-44A3-B8DF-6056E58F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9C6AA98-0EED-40B6-84F5-BC285473B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645-FFE6-470D-9392-9973F7837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268CF6-86DA-4B9E-9799-F9DE253D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8838E2D-C3AA-4CE7-AF2C-7B43BD5C3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2E7174F-3E7F-4ADE-94D5-9EC80C0D2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4A9B-0A15-4643-8AE6-3B41E5365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2DF54-817A-4F0F-BB10-9294DB16D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ubTitle"/>
          </p:nvPr>
        </p:nvSpPr>
        <p:spPr>
          <a:xfrm>
            <a:off x="-360" y="1123920"/>
            <a:ext cx="891396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1114560" y="4512240"/>
            <a:ext cx="761040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14440" y="2595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111456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5014440" y="4512240"/>
            <a:ext cx="37137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68748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60760" y="2595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11145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5" name="PlaceHolder 6"/>
          <p:cNvSpPr>
            <a:spLocks noGrp="1"/>
          </p:cNvSpPr>
          <p:nvPr>
            <p:ph/>
          </p:nvPr>
        </p:nvSpPr>
        <p:spPr>
          <a:xfrm>
            <a:off x="368748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46" name="PlaceHolder 7"/>
          <p:cNvSpPr>
            <a:spLocks noGrp="1"/>
          </p:cNvSpPr>
          <p:nvPr>
            <p:ph/>
          </p:nvPr>
        </p:nvSpPr>
        <p:spPr>
          <a:xfrm>
            <a:off x="6260760" y="4512240"/>
            <a:ext cx="2450160" cy="175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noFill/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49454-5C3D-4EB3-8F47-26B10111732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7C84-05ED-4F35-B031-945FF8EE5433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ftr" idx="24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dt" idx="2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16269-40CE-45D7-B26F-379A44C6F826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464AB-73D2-4B6E-95FD-EBB5531FD21E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 type="ftr" idx="2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9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AEDB0-DA08-4C71-88B7-57A261BC2D67}" type="datetime3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 July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 type="sldNum" idx="29"/>
          </p:nvPr>
        </p:nvSpPr>
        <p:spPr>
          <a:xfrm>
            <a:off x="6901920" y="-5256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F2DBA-809B-4BF9-A088-3F01E79DF044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CED66-1CB2-454F-B5BD-C262D0C11F65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F345-FCC1-4925-B90F-F60541C3BB4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9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D3B8B-B705-4E4B-9DB6-A2B6F122A31B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0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1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EADEB-A391-4441-BBEC-F78D9C34EE88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traight Connector 8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traight Connector 9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0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traight Connector 11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2"/>
          <p:cNvSpPr/>
          <p:nvPr/>
        </p:nvSpPr>
        <p:spPr>
          <a:xfrm>
            <a:off x="1211400" y="2905200"/>
            <a:ext cx="338436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traight Connector 13"/>
          <p:cNvSpPr/>
          <p:nvPr/>
        </p:nvSpPr>
        <p:spPr>
          <a:xfrm>
            <a:off x="5238720" y="2905200"/>
            <a:ext cx="3382920" cy="1440"/>
          </a:xfrm>
          <a:prstGeom prst="line">
            <a:avLst/>
          </a:prstGeom>
          <a:ln w="38160">
            <a:solidFill>
              <a:srgbClr val="d6d9c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BB7A9-4475-43A1-A06B-EBF67E69EFDD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4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E5AAA-D771-4B43-A751-0126BFCF9DC5}" type="slidenum">
              <a:rPr b="0" lang="de-CH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5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64FD8-E8E1-4FBD-B19D-EC14A853AFC8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6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7"/>
          </p:nvPr>
        </p:nvSpPr>
        <p:spPr>
          <a:xfrm>
            <a:off x="8790120" y="65685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C37F-FC1D-42E2-8820-CFC0B7437FE7}" type="slidenum">
              <a:rPr b="0" lang="en-US" sz="800" spc="-1" strike="noStrike">
                <a:solidFill>
                  <a:srgbClr val="59595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8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6714-C523-4F8F-B28C-1CC501D68B51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9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 type="dt" idx="20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27D26-3E8D-4AB2-B30A-2CCF8EE2D16A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 type="ftr" idx="21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6"/>
          <p:cNvSpPr/>
          <p:nvPr/>
        </p:nvSpPr>
        <p:spPr>
          <a:xfrm>
            <a:off x="914400" y="0"/>
            <a:ext cx="7999560" cy="182520"/>
          </a:xfrm>
          <a:prstGeom prst="rect">
            <a:avLst/>
          </a:prstGeom>
          <a:solidFill>
            <a:srgbClr val="d6d9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7"/>
          <p:cNvSpPr/>
          <p:nvPr/>
        </p:nvSpPr>
        <p:spPr>
          <a:xfrm>
            <a:off x="914400" y="6675480"/>
            <a:ext cx="7999560" cy="182520"/>
          </a:xfrm>
          <a:prstGeom prst="rect">
            <a:avLst/>
          </a:prstGeom>
          <a:solidFill>
            <a:srgbClr val="e4e6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Click to edit the outline text format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6492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2" marL="100368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ird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3" marL="1330200" indent="-326160">
              <a:spcBef>
                <a:spcPts val="20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our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4" marL="1668960" indent="-33840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Fif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5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ix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6" marL="1668960" indent="-338400">
              <a:spcBef>
                <a:spcPts val="2001"/>
              </a:spcBef>
              <a:buClr>
                <a:srgbClr val="000000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Seventh Outline Level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2"/>
          </p:nvPr>
        </p:nvSpPr>
        <p:spPr>
          <a:xfrm>
            <a:off x="6579720" y="18900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4B6CC-3740-49A2-9101-A9A9FC478853}" type="datetime">
              <a:rPr b="0" lang="en-GB" sz="1000" spc="-1" strike="noStrike">
                <a:solidFill>
                  <a:srgbClr val="595959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3"/>
          </p:nvPr>
        </p:nvSpPr>
        <p:spPr>
          <a:xfrm>
            <a:off x="1120680" y="18900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CH" sz="1000" spc="-1" strike="noStrike">
                <a:solidFill>
                  <a:srgbClr val="59595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>
                <a:solidFill>
                  <a:srgbClr val="595959"/>
                </a:solidFill>
                <a:latin typeface="Times New Roman"/>
              </a:rPr>
              <a:t>Copyright </a:t>
            </a:r>
            <a:r>
              <a:rPr b="0" lang="en-US" sz="1000" spc="-1" strike="noStrike">
                <a:solidFill>
                  <a:srgbClr val="595959"/>
                </a:solidFill>
                <a:latin typeface="Times New Roman"/>
                <a:ea typeface="Arial"/>
              </a:rPr>
              <a:t>© 2008 by André-Netl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2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2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-360" y="2157480"/>
            <a:ext cx="8915400" cy="8143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22400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FAI/CIA Event Logger Project 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TextBox 3"/>
          <p:cNvSpPr/>
          <p:nvPr/>
        </p:nvSpPr>
        <p:spPr>
          <a:xfrm>
            <a:off x="1159200" y="2971800"/>
            <a:ext cx="541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Technology Working Group – Lausanne, March 200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-360" y="1066680"/>
            <a:ext cx="891540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mparis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graphicFrame>
        <p:nvGraphicFramePr>
          <p:cNvPr id="526" name=""/>
          <p:cNvGraphicFramePr/>
          <p:nvPr/>
        </p:nvGraphicFramePr>
        <p:xfrm>
          <a:off x="380880" y="2133720"/>
          <a:ext cx="8534520" cy="4419360"/>
        </p:xfrm>
        <a:graphic>
          <a:graphicData uri="http://schemas.openxmlformats.org/drawingml/2006/table">
            <a:tbl>
              <a:tblPr/>
              <a:tblGrid>
                <a:gridCol w="3054600"/>
                <a:gridCol w="2066760"/>
                <a:gridCol w="3413160"/>
              </a:tblGrid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New FAI Event Log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Century Gothic"/>
                          <a:ea typeface="Times New Roman"/>
                        </a:rPr>
                        <a:t>Other retail logg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a2c81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ee the actual scored altitu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quires lapto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lectronic mar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few yes, but can’t differentiate between marks or tas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ON and PD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21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Fraud prote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Very limited, not tamperproo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ccurate altitude measuremen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most 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asy handling (preflight, during flight and at debriefing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few yes, depending on competition operation procedur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Instant feedback in case of logger proble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Rechargeable batte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Huge waste, ecologically not reason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Quality of devices, life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Some bad quality, max 4-5 yea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Extensibility (add feature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0f5e7"/>
                    </a:solidFill>
                  </a:tcPr>
                </a:tc>
              </a:tr>
              <a:tr h="42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control over software functionalit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0eb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st &amp; Financ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Cost per device: ±530€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Sponsor or financial partner to pay for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43080" indent="-34308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Rent to event organiz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Tim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1066320" y="2133360"/>
            <a:ext cx="761076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09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Find a sponsor or financial partner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a first series of about 40 device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tart renting model in some event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be used in continental or world championshi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201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458640" indent="-458640">
              <a:lnSpc>
                <a:spcPct val="9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Build more devices to complete set of 150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Why new GPS Logger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Most current loggers are in bad condition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Improve ballooning competitions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Virtual marker drop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Fly On tasks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top / reduce discussions about accuracy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State of the art GPS technology (SiRF III)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Pilot can view his logged position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lvl="1" marL="610200" indent="-299520">
              <a:lnSpc>
                <a:spcPct val="7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entury Gothic"/>
              </a:rPr>
              <a:t>Logger interval 1sec</a:t>
            </a:r>
            <a:endParaRPr b="0" lang="en-US" sz="2200" spc="-1" strike="noStrike">
              <a:solidFill>
                <a:srgbClr val="595959"/>
              </a:solidFill>
              <a:latin typeface="Century Gothic"/>
            </a:endParaRPr>
          </a:p>
          <a:p>
            <a:pPr marL="305280" indent="-305280">
              <a:lnSpc>
                <a:spcPct val="7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595959"/>
                </a:solidFill>
                <a:latin typeface="Century Gothic"/>
              </a:rPr>
              <a:t>Simplify logger handling in scoring</a:t>
            </a:r>
            <a:endParaRPr b="0" lang="en-US" sz="26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Key features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1114560" y="2595240"/>
            <a:ext cx="76104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spla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position, altitude, marker statu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Keypa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enter Fly On goals or drop markers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USB-Port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use logger as navigation device for the pilot’s laptop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D-Car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o store the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digitally signed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track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Serial output for </a:t>
            </a: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telemetry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(live tracking/scoring)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08520" indent="-30852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95959"/>
                </a:solidFill>
                <a:latin typeface="Century Gothic"/>
              </a:rPr>
              <a:t>SiRF III</a:t>
            </a: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 newest GPS technology availabl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-360" y="990360"/>
            <a:ext cx="8915400" cy="9903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ollaboration with Flytec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142640" y="2133360"/>
            <a:ext cx="56991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In April 2008 we started a collaboration with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We can use their 6020 hardware and write our own custom softwar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Hardware is already in use and stabl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The device has all necessary component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Graphical display, custom keypad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Low power (30h runtime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7560" indent="-312840">
              <a:lnSpc>
                <a:spcPct val="80000"/>
              </a:lnSpc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entury Gothic"/>
              </a:rPr>
              <a:t>Very good barometric altitude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-318960">
              <a:lnSpc>
                <a:spcPct val="80000"/>
              </a:lnSpc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entury Gothic"/>
              </a:rPr>
              <a:t>Documentation, calibration warranty and support from Flytec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8960" indent="0">
              <a:lnSpc>
                <a:spcPct val="80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pic>
        <p:nvPicPr>
          <p:cNvPr id="483" name="Picture 11" descr="logger"/>
          <p:cNvPicPr/>
          <p:nvPr/>
        </p:nvPicPr>
        <p:blipFill>
          <a:blip r:embed="rId1"/>
          <a:srcRect l="-41856" t="0" r="-41856" b="0"/>
          <a:stretch/>
        </p:blipFill>
        <p:spPr>
          <a:xfrm>
            <a:off x="5867280" y="2133720"/>
            <a:ext cx="4038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Picture 19" descr="logger"/>
          <p:cNvPicPr/>
          <p:nvPr/>
        </p:nvPicPr>
        <p:blipFill>
          <a:blip r:embed="rId1"/>
          <a:stretch/>
        </p:blipFill>
        <p:spPr>
          <a:xfrm>
            <a:off x="1600200" y="2178000"/>
            <a:ext cx="2514600" cy="445140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Logger Hardware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6" name="Line 11"/>
          <p:cNvSpPr/>
          <p:nvPr/>
        </p:nvSpPr>
        <p:spPr>
          <a:xfrm flipH="1">
            <a:off x="2819160" y="2590920"/>
            <a:ext cx="2895480" cy="142704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13"/>
          <p:cNvSpPr/>
          <p:nvPr/>
        </p:nvSpPr>
        <p:spPr>
          <a:xfrm flipH="1" flipV="1">
            <a:off x="3429000" y="4581360"/>
            <a:ext cx="2286000" cy="371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14"/>
          <p:cNvSpPr/>
          <p:nvPr/>
        </p:nvSpPr>
        <p:spPr>
          <a:xfrm flipH="1">
            <a:off x="3505320" y="3733920"/>
            <a:ext cx="2209680" cy="368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15"/>
          <p:cNvSpPr/>
          <p:nvPr/>
        </p:nvSpPr>
        <p:spPr>
          <a:xfrm flipH="1" flipV="1">
            <a:off x="2971800" y="5257800"/>
            <a:ext cx="2743200" cy="5335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8"/>
          <p:cNvSpPr/>
          <p:nvPr/>
        </p:nvSpPr>
        <p:spPr>
          <a:xfrm>
            <a:off x="5729760" y="4724280"/>
            <a:ext cx="192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SD-Card s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0"/>
          <p:cNvSpPr/>
          <p:nvPr/>
        </p:nvSpPr>
        <p:spPr>
          <a:xfrm>
            <a:off x="5729760" y="2362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160x240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22"/>
          <p:cNvSpPr/>
          <p:nvPr/>
        </p:nvSpPr>
        <p:spPr>
          <a:xfrm>
            <a:off x="5729040" y="3505320"/>
            <a:ext cx="23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B-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23"/>
          <p:cNvSpPr/>
          <p:nvPr/>
        </p:nvSpPr>
        <p:spPr>
          <a:xfrm>
            <a:off x="5727240" y="5562720"/>
            <a:ext cx="229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de-CH" sz="2400" spc="-1" strike="noStrike">
                <a:solidFill>
                  <a:srgbClr val="000000"/>
                </a:solidFill>
                <a:latin typeface="Arial"/>
              </a:rPr>
              <a:t>ustom keyp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2" descr=""/>
          <p:cNvPicPr/>
          <p:nvPr/>
        </p:nvPicPr>
        <p:blipFill>
          <a:blip r:embed="rId1"/>
          <a:stretch/>
        </p:blipFill>
        <p:spPr>
          <a:xfrm>
            <a:off x="990720" y="2666880"/>
            <a:ext cx="3962160" cy="2452680"/>
          </a:xfrm>
          <a:prstGeom prst="rect">
            <a:avLst/>
          </a:prstGeom>
          <a:ln w="0">
            <a:noFill/>
          </a:ln>
        </p:spPr>
      </p:pic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Custom Keypad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6" name="Line 11"/>
          <p:cNvSpPr/>
          <p:nvPr/>
        </p:nvSpPr>
        <p:spPr>
          <a:xfrm flipH="1">
            <a:off x="3733920" y="3657600"/>
            <a:ext cx="1828800" cy="15228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13"/>
          <p:cNvSpPr/>
          <p:nvPr/>
        </p:nvSpPr>
        <p:spPr>
          <a:xfrm flipV="1">
            <a:off x="1371600" y="4876560"/>
            <a:ext cx="914400" cy="98100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15"/>
          <p:cNvSpPr/>
          <p:nvPr/>
        </p:nvSpPr>
        <p:spPr>
          <a:xfrm flipH="1" flipV="1">
            <a:off x="4266720" y="4724280"/>
            <a:ext cx="762120" cy="990720"/>
          </a:xfrm>
          <a:prstGeom prst="line">
            <a:avLst/>
          </a:prstGeom>
          <a:ln w="12600">
            <a:solidFill>
              <a:srgbClr val="bbc0ac"/>
            </a:solidFill>
            <a:miter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18"/>
          <p:cNvSpPr/>
          <p:nvPr/>
        </p:nvSpPr>
        <p:spPr>
          <a:xfrm>
            <a:off x="782640" y="586728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Fast marker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20"/>
          <p:cNvSpPr/>
          <p:nvPr/>
        </p:nvSpPr>
        <p:spPr>
          <a:xfrm>
            <a:off x="5418000" y="342900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S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imple navig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23"/>
          <p:cNvSpPr/>
          <p:nvPr/>
        </p:nvSpPr>
        <p:spPr>
          <a:xfrm>
            <a:off x="4736520" y="556272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Gothic"/>
              </a:rPr>
              <a:t>E</a:t>
            </a:r>
            <a:r>
              <a:rPr b="0" lang="fr-CH" sz="2400" spc="-1" strike="noStrike">
                <a:solidFill>
                  <a:srgbClr val="000000"/>
                </a:solidFill>
                <a:latin typeface="Century Gothic"/>
              </a:rPr>
              <a:t>asy </a:t>
            </a:r>
            <a:r>
              <a:rPr b="0" lang="de-CH" sz="2400" spc="-1" strike="noStrike">
                <a:solidFill>
                  <a:srgbClr val="000000"/>
                </a:solidFill>
                <a:latin typeface="Century Gothic"/>
              </a:rPr>
              <a:t>goal decla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-360" y="838080"/>
            <a:ext cx="8915400" cy="99072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Easy handl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40388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Handling is very easy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The following actions are possible: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rop a marker (markers are numbered 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Declare a goal (1..9)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lvl="1" marL="630720" indent="-309600">
              <a:spcBef>
                <a:spcPts val="601"/>
              </a:spcBef>
              <a:buClr>
                <a:srgbClr val="51640b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595959"/>
                </a:solidFill>
                <a:latin typeface="Century Gothic"/>
              </a:rPr>
              <a:t>List dropped markers and declared goals</a:t>
            </a:r>
            <a:endParaRPr b="0" lang="en-US" sz="2000" spc="-1" strike="noStrike">
              <a:solidFill>
                <a:srgbClr val="595959"/>
              </a:solidFill>
              <a:latin typeface="Century Gothic"/>
            </a:endParaRPr>
          </a:p>
          <a:p>
            <a:pPr marL="315360" indent="-315360">
              <a:spcBef>
                <a:spcPts val="2001"/>
              </a:spcBef>
              <a:buClr>
                <a:srgbClr val="a2c816"/>
              </a:buClr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400" spc="-1" strike="noStrike">
                <a:solidFill>
                  <a:srgbClr val="595959"/>
                </a:solidFill>
                <a:latin typeface="Century Gothic"/>
              </a:rPr>
              <a:t>Barometric altitude</a:t>
            </a:r>
            <a:endParaRPr b="0" lang="en-US" sz="2400" spc="-1" strike="noStrike">
              <a:solidFill>
                <a:srgbClr val="595959"/>
              </a:solidFill>
              <a:latin typeface="Century Gothic"/>
            </a:endParaRPr>
          </a:p>
        </p:txBody>
      </p:sp>
      <p:sp>
        <p:nvSpPr>
          <p:cNvPr id="504" name="Text Box 10"/>
          <p:cNvSpPr/>
          <p:nvPr/>
        </p:nvSpPr>
        <p:spPr>
          <a:xfrm>
            <a:off x="5181480" y="4952880"/>
            <a:ext cx="3657600" cy="16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The idle screen shows all necessary inform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Coordinates can also be displayed in UTM and altitude in fee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8" descr="Screenshot9"/>
          <p:cNvPicPr/>
          <p:nvPr/>
        </p:nvPicPr>
        <p:blipFill>
          <a:blip r:embed="rId1"/>
          <a:stretch/>
        </p:blipFill>
        <p:spPr>
          <a:xfrm>
            <a:off x="5334120" y="1523880"/>
            <a:ext cx="2253960" cy="3380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Marker drop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07" name="Picture 4" descr="Screenshot3"/>
          <p:cNvPicPr/>
          <p:nvPr/>
        </p:nvPicPr>
        <p:blipFill>
          <a:blip r:embed="rId1"/>
          <a:stretch/>
        </p:blipFill>
        <p:spPr>
          <a:xfrm>
            <a:off x="485928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8" name="Picture 5" descr="Screenshot1"/>
          <p:cNvPicPr/>
          <p:nvPr/>
        </p:nvPicPr>
        <p:blipFill>
          <a:blip r:embed="rId2"/>
          <a:stretch/>
        </p:blipFill>
        <p:spPr>
          <a:xfrm>
            <a:off x="53964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9" name="Picture 6" descr="Screenshot2"/>
          <p:cNvPicPr/>
          <p:nvPr/>
        </p:nvPicPr>
        <p:blipFill>
          <a:blip r:embed="rId3"/>
          <a:stretch/>
        </p:blipFill>
        <p:spPr>
          <a:xfrm>
            <a:off x="694836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0" name="Picture 7" descr=""/>
          <p:cNvPicPr/>
          <p:nvPr/>
        </p:nvPicPr>
        <p:blipFill>
          <a:blip r:embed="rId4"/>
          <a:srcRect l="0" t="65636" r="46904" b="0"/>
          <a:stretch/>
        </p:blipFill>
        <p:spPr>
          <a:xfrm>
            <a:off x="468360" y="5013360"/>
            <a:ext cx="1224000" cy="490680"/>
          </a:xfrm>
          <a:prstGeom prst="rect">
            <a:avLst/>
          </a:prstGeom>
          <a:ln w="0">
            <a:noFill/>
          </a:ln>
        </p:spPr>
      </p:pic>
      <p:sp>
        <p:nvSpPr>
          <p:cNvPr id="511" name="Text Box 8"/>
          <p:cNvSpPr/>
          <p:nvPr/>
        </p:nvSpPr>
        <p:spPr>
          <a:xfrm>
            <a:off x="395280" y="436572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Press „Drop Marker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Picture 9" descr="Screenshot6"/>
          <p:cNvPicPr/>
          <p:nvPr/>
        </p:nvPicPr>
        <p:blipFill>
          <a:blip r:embed="rId5"/>
          <a:stretch/>
        </p:blipFill>
        <p:spPr>
          <a:xfrm>
            <a:off x="2700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3" name="Text Box 10"/>
          <p:cNvSpPr/>
          <p:nvPr/>
        </p:nvSpPr>
        <p:spPr>
          <a:xfrm>
            <a:off x="2556000" y="4365720"/>
            <a:ext cx="187164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Select Marker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The user gets a warning if he already dropped the same marker befo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11"/>
          <p:cNvSpPr/>
          <p:nvPr/>
        </p:nvSpPr>
        <p:spPr>
          <a:xfrm>
            <a:off x="4859280" y="4365720"/>
            <a:ext cx="1603440" cy="23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3. Press ok to drop mark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400" spc="-1" strike="noStrike">
                <a:solidFill>
                  <a:srgbClr val="000000"/>
                </a:solidFill>
                <a:latin typeface="Century Gothic"/>
              </a:rPr>
              <a:t>You can wait here as long as you want until your are closest to the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12"/>
          <p:cNvSpPr/>
          <p:nvPr/>
        </p:nvSpPr>
        <p:spPr>
          <a:xfrm>
            <a:off x="6948360" y="4365720"/>
            <a:ext cx="165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4. The idle screen shows the dropped mark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Oval 13"/>
          <p:cNvSpPr/>
          <p:nvPr/>
        </p:nvSpPr>
        <p:spPr>
          <a:xfrm>
            <a:off x="6804000" y="328464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-360" y="1123920"/>
            <a:ext cx="8913960" cy="9144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txBody>
          <a:bodyPr lIns="1188720" rIns="2743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3600" spc="-1" strike="noStrike">
                <a:solidFill>
                  <a:srgbClr val="ffffff"/>
                </a:solidFill>
                <a:latin typeface="Century Gothic"/>
              </a:rPr>
              <a:t>Goal declaration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518" name="Picture 4" descr="Screenshot4"/>
          <p:cNvPicPr/>
          <p:nvPr/>
        </p:nvPicPr>
        <p:blipFill>
          <a:blip r:embed="rId1"/>
          <a:stretch/>
        </p:blipFill>
        <p:spPr>
          <a:xfrm>
            <a:off x="3809880" y="1935000"/>
            <a:ext cx="152424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19" name="Picture 5" descr="Screenshot2"/>
          <p:cNvPicPr/>
          <p:nvPr/>
        </p:nvPicPr>
        <p:blipFill>
          <a:blip r:embed="rId2"/>
          <a:stretch/>
        </p:blipFill>
        <p:spPr>
          <a:xfrm>
            <a:off x="125892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0" name="Text Box 6"/>
          <p:cNvSpPr/>
          <p:nvPr/>
        </p:nvSpPr>
        <p:spPr>
          <a:xfrm>
            <a:off x="3693960" y="4437000"/>
            <a:ext cx="2249640" cy="23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2. Enter goal coordinat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CH" sz="1600" spc="-1" strike="noStrike">
                <a:solidFill>
                  <a:srgbClr val="000000"/>
                </a:solidFill>
                <a:latin typeface="Century Gothic"/>
              </a:rPr>
              <a:t>The logger accepts either goal number or coordinates. Altitude is opt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"/>
          <p:cNvSpPr/>
          <p:nvPr/>
        </p:nvSpPr>
        <p:spPr>
          <a:xfrm>
            <a:off x="1116000" y="4437000"/>
            <a:ext cx="223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1. Select „Declare Goal“ and select the goal nu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9"/>
          <p:cNvSpPr/>
          <p:nvPr/>
        </p:nvSpPr>
        <p:spPr>
          <a:xfrm>
            <a:off x="6273720" y="4456080"/>
            <a:ext cx="256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Century Gothic"/>
              </a:rPr>
              <a:t>A list of goals (and markers) can be display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Picture 11" descr="Screenshot7"/>
          <p:cNvPicPr/>
          <p:nvPr/>
        </p:nvPicPr>
        <p:blipFill>
          <a:blip r:embed="rId3"/>
          <a:stretch/>
        </p:blipFill>
        <p:spPr>
          <a:xfrm>
            <a:off x="6372360" y="1935000"/>
            <a:ext cx="152388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24" name="AutoShape 13"/>
          <p:cNvSpPr/>
          <p:nvPr/>
        </p:nvSpPr>
        <p:spPr>
          <a:xfrm>
            <a:off x="6516720" y="981000"/>
            <a:ext cx="2232000" cy="1008000"/>
          </a:xfrm>
          <a:prstGeom prst="wedgeRectCallout">
            <a:avLst>
              <a:gd name="adj1" fmla="val -38476"/>
              <a:gd name="adj2" fmla="val 96143"/>
            </a:avLst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Arial"/>
              </a:rPr>
              <a:t>The declaration is stored together with a timestam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08:23:02Z</dcterms:created>
  <dc:creator>Lukas André</dc:creator>
  <dc:description/>
  <dc:language>en-US</dc:language>
  <cp:lastModifiedBy>Claude Weber</cp:lastModifiedBy>
  <dcterms:modified xsi:type="dcterms:W3CDTF">2009-03-13T13:55:07Z</dcterms:modified>
  <cp:revision>77</cp:revision>
  <dc:subject/>
  <dc:title>In and ou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