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812CC-8D30-4717-A48B-160E89CD2FD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italise international ballooning youth cam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76A7-3E30-493A-99A5-9275B3CD0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09CF-99CD-4C2E-B164-7D63645F5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5344-68C2-4C76-A62B-D1667080F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B2A2-A99C-485B-87DC-C13C6EF31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A2B0-6F3D-4206-B34A-49AEBC6CB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DD3E-7036-4DE8-928E-8917A79A6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9F69-3300-4587-937C-88F8A0571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4F82-BAF0-4049-A4AC-6C6B80D26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A162-0035-4040-8C63-4E12E3F42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F73D-1D54-4AB9-8F86-1898ED617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609E-9BE5-41B3-9256-1DAD2EC80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0DDF-BED6-4AFC-9CA2-E766B75B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7829C-6F85-4E36-B53D-212C7A0A487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593640"/>
            <a:ext cx="823284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Ballooning Youth Activities in Germa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788000" y="1557360"/>
            <a:ext cx="3592440" cy="3592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A3E9-5979-4CA3-A8DF-CA334971CDF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537480"/>
            <a:ext cx="823284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ome feedback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32840" cy="46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need of a more robust structure appeared to be crucial for future initi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main challenge to overcome is the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 the increasing help of sponsors and a helpful community in adapting the conditions to youngsters, this can be more affordable and valuable in ret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th enthusiasm around ballooning can also be captured and fostered by gathering different people from different horizon: countries or airsports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E74D-881D-4904-865E-9ACCCA13559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their feedback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31040" cy="45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ery young involved enjoyed ballo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rom the different initiativ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d the feeling to be part of the air sport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arn that teamwork is key to this activity and also bey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ood that self discipline and rigourness during flight preparation and handling of the material really mat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d great fun with their peers and coa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AB58-CC56-4597-8D6C-078FE564C5BF}" type="slidenum">
              <a:t>1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4240"/>
            <a:ext cx="822960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allonSportJugend des DFS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8800" y="1600200"/>
            <a:ext cx="4327560" cy="49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BallonSportJugend (BSJ) is a permanent institution of the German Ballooning Federation (DFSV)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rt of youth activities of balloon clubs (youth camps, school and club projects) with know 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rt of youth activities with the German Balloon Federations Youth Balloon D-OBSJ and youth tent camp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435640" y="1484280"/>
            <a:ext cx="3409920" cy="453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5AA0-AAF3-48F8-AF68-0C29EB6BC05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4240"/>
            <a:ext cx="822960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nual Summer Youth Ca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86920" y="3428640"/>
            <a:ext cx="6985080" cy="295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rman Balloon Federations (DFSV) BallonSportjugend (BSJ) together with the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irsports Youth of the German Aeroclub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Luftsportjugend des DAeC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ual since 199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443640" y="1700280"/>
            <a:ext cx="1373040" cy="5158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547640" y="1557360"/>
            <a:ext cx="1119240" cy="1114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995640" y="1557360"/>
            <a:ext cx="1171800" cy="129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C174-E31C-4B8C-A1ED-54A57FEC422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5680"/>
            <a:ext cx="823104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ther Youth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15640" y="1604520"/>
            <a:ext cx="4103640" cy="279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571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uniorenmeisterschaft“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571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eting „Jeunes Brûleurs“ in F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571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th Airgames“ of the airsports youth of Baden-Württemberg (Germa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601"/>
              </a:spcBef>
              <a:buNone/>
              <a:tabLst>
                <a:tab algn="l" pos="3571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508720" y="1413000"/>
            <a:ext cx="2700360" cy="3600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508720" y="5157720"/>
            <a:ext cx="2814480" cy="104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7DE3-FBE2-43C3-9C9A-559A5B182CF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4240"/>
            <a:ext cx="822960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rman-French Youth Cam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95280" y="4581360"/>
            <a:ext cx="4038840" cy="109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nual camp since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tational located in France and in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588000" y="1700280"/>
            <a:ext cx="1635120" cy="2114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826920" y="1484280"/>
            <a:ext cx="2511720" cy="4527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356000" y="1628640"/>
            <a:ext cx="1693800" cy="187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AA36-E0F5-4E0D-B54C-2CED7DC325F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CIA International Youth Cam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669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itterfeld, Germany, 199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aucha, Germany, 199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zech Paradise, Czech Republik, 199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ulda, Germany, 199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empten, Germany, 20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aucha, Germany, 200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hl, Germany, 200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hl, Germany, 200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hl, Germany, 200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rtenberg, Germany,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6196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IA International Youth Camp 20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16000" y="1844280"/>
            <a:ext cx="4038840" cy="295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engthen the participants in international team p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courage similar initiatives in other fe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3376440" cy="444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4313-0C3E-4826-9D81-5015234CF71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IA International Youth Camp 20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 venture of BallonSportGruppe Stuttgart and the German Balloon Federation (DFSV) with aid of the CIA/FAI, the and the German Aeroclub (Luftsportjugend des DAeC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 Hot Air Ballo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Gas Ballo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p to 30 Participants fro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merica, Africa, Asia, Australia and Europe aged 16 to 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04. AUG bis 10. AU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uttgart, Ger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967280" y="1600200"/>
            <a:ext cx="3398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424800"/>
            <a:ext cx="823284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ome feedback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65000" y="1604880"/>
            <a:ext cx="2664000" cy="36194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595320" y="1628280"/>
            <a:ext cx="5095800" cy="42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5880" indent="-3207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llooning is not a typical activity for young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ly in a few countries have youth activities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Germany, Fr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ly few clubs and balloonists are engaged in capturing youth interest in ballo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F95E-A1DE-4420-9ADD-093C117B589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9:43:00Z</dcterms:created>
  <dc:creator>Yousif Abdel Gadir hf609249</dc:creator>
  <dc:description/>
  <dc:language>en-US</dc:language>
  <cp:lastModifiedBy> </cp:lastModifiedBy>
  <dcterms:modified xsi:type="dcterms:W3CDTF">2008-03-06T14:19:27Z</dcterms:modified>
  <cp:revision>6</cp:revision>
  <dc:subject/>
  <dc:title>Folie 1</dc:title>
</cp:coreProperties>
</file>