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9.wmf" ContentType="image/x-wmf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8B47A-E255-4EB8-92DB-C3A7B4AD4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A0667-988A-42F9-A53B-13A1FEBAC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6CD2C-915F-4F15-8320-1213B998A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26C90-88D7-4AC9-84A3-420626E2F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8366D-4029-4714-8F0B-68D04D0EC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24F8B-44D3-4C77-88C3-4658D2029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1686C-FF3D-4034-87B2-8FC9E04FF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A1AD6-4F0B-4A48-B0F5-53EC736BB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9143B-E863-4185-A170-95783B019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68106-66A9-4ECF-ACC1-7096FEB35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F0CEC-AFBB-4E88-B137-36754D764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65479-9CB3-49A0-A7FA-6A02FCE7C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A0F02-068C-4AD6-9F53-741519850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46D74-5FF2-4CAF-BFCE-15B5B0C4E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CBAD2-E11A-4CC1-8A01-5353AE7EB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64640-1C19-4642-A2B9-F49B7E588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AB76E-16DF-4DF4-8238-5B97579B5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34D27-F459-41F6-A221-FF012CCDF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AA950-A8D0-4F05-94EB-B34CE8411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CCF52-B30D-4B17-B94A-7D91B7E43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6C5DE-8CCF-44A7-A5D3-C99884C51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84A61-6A5B-4155-B96A-8E5AABF36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8440C-B5B1-4713-BCFE-7DE398EEB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29FFC-2679-497F-BE87-54F10864F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A1E10-97D4-4AD6-A200-F2256BD1F304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12840-7A93-4F76-95C6-D2DD6E6F1D98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0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26920" y="404280"/>
            <a:ext cx="77724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b2b2b2"/>
                </a:solidFill>
                <a:latin typeface="Arial"/>
              </a:rPr>
              <a:t>Nomination for </a:t>
            </a:r>
            <a:br>
              <a:rPr sz="3600"/>
            </a:br>
            <a:r>
              <a:rPr b="1" lang="ru-RU" sz="3600" spc="-1" strike="noStrike">
                <a:solidFill>
                  <a:srgbClr val="b2b2b2"/>
                </a:solidFill>
                <a:latin typeface="Arial"/>
              </a:rPr>
              <a:t>Santos Dumont Gold Airship Medal</a:t>
            </a: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692360" y="5445000"/>
            <a:ext cx="6400800" cy="13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Leonid TYUKHTYAEV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SSIA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268360" y="1870200"/>
            <a:ext cx="5183280" cy="345420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2b2b2"/>
                </a:solidFill>
                <a:latin typeface="Arial"/>
              </a:rPr>
              <a:t>Leonid TYUKHTYAEV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924360" y="2492280"/>
            <a:ext cx="475776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ate of birth – 21 of June, 195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 ballooning from 199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t-air &amp; Gas balloons and Airship pilo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ational Absolute Altitude Record holder (Class A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ussian Alternate in CIA FA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20840" y="1413000"/>
            <a:ext cx="332892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FAI World Record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8360" y="5444640"/>
            <a:ext cx="8229600" cy="11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Se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mber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4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2008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– Flight of Au-30 Gas Airship (Saint-Peterburg – Vladimi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AI World Record for subcategories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BA-05 - BA-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Distance - 626.1 km (FAI Database ID 15161-15166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763640" y="1557360"/>
            <a:ext cx="5616720" cy="374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FAI World Record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8360" y="580536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Sep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ember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14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2008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– Flight of Au-30 Gas Airship (Saint-Peterburg – Vladimir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AI World Record for subcategories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BA-05 - BA-1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Distance - 626.1 km (FAI Database ID 15161-15166)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908000" y="1484280"/>
            <a:ext cx="5394600" cy="412596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292720" y="1413000"/>
            <a:ext cx="2519280" cy="16812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1763640" y="3571920"/>
            <a:ext cx="2160720" cy="216072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FAI World Record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68360" y="5444640"/>
            <a:ext cx="8229600" cy="11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Feb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uary 03,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2009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AI World Record for subcategory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BX-03, Distance - 99.136 km (FAI Database ID 1524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Feb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uary 24,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2009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AI World Record for subcategory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BX-03, Duration - 5 h 5 min (FAI Database ID 15243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692360" y="1125360"/>
            <a:ext cx="5689440" cy="38116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Russian Records Factory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123640" y="1341000"/>
            <a:ext cx="4753080" cy="43210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2484360" y="1413000"/>
            <a:ext cx="4175280" cy="417492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755640" y="5805360"/>
            <a:ext cx="792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ussian Records Factory was established by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ONID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TYUKHTYAEV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in 2006 to help Russian and former-USSR pilots with national and world record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NOMINATION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020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The Federation of Aeronautics of Russia conside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that thes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orld record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flights are an outstanding performance in airships and proudly presen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L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ONID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TYUKHTYAEV as a candidate for the Santos Dumont Gold Airship Medal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5580000" y="1628640"/>
            <a:ext cx="3111480" cy="44643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3132000" y="1628640"/>
            <a:ext cx="242280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5T18:47:31Z</dcterms:created>
  <dc:creator>Stanislaw Fuodoroff</dc:creator>
  <dc:description/>
  <dc:language>en-US</dc:language>
  <cp:lastModifiedBy>Stanislaw Fuodoroff</cp:lastModifiedBy>
  <dcterms:modified xsi:type="dcterms:W3CDTF">2010-03-13T08:47:47Z</dcterms:modified>
  <cp:revision>19</cp:revision>
  <dc:subject/>
  <dc:title>Nomination for  Santos Dumont Gold Airship Medal </dc:title>
</cp:coreProperties>
</file>