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63D9-0CF6-47C6-89AC-4AB88A98D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CDD1-8955-4287-93F4-337DA27C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E7AB-5C43-4A63-9B3D-6DDCAE1F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5D7E-E52F-44D0-9A8F-0AC11810F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19426-0B7B-4CBF-B957-5F998467E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E5714-9013-49C0-BC3B-6FB36300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F82D7-BEE1-4538-9D0A-FC0A2DB2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CA4EE-0B56-4F1A-A55B-11BC8FC9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084DA-898E-4384-A9EE-88B065DE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5621F-DD77-4A30-85C1-6DDD7D34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39C9F-5691-40B9-9EE4-956D8835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DEB2-3494-4CA5-8470-957EA63A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3B1AE-0414-4729-AC8D-331AB40B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1252D-D2CB-4FB3-9088-9553347C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42127-9960-4BFA-ADC2-8BBC59B4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58161-73E9-40C4-86DB-747A68A7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1E1E5-C340-4247-BFB4-1C9104E7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150B-C7C5-43DA-9705-D322791F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E691-94B8-498F-90A1-B4040708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7695-75FD-4D22-864A-1EC06B48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4A56-2C03-4895-B0D4-328C2359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552E-2E6D-43FE-BB92-DDD0C473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5F61-4E36-4BE8-B297-B149D2AC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7384-9B57-41A0-BD0D-AFC1F152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842D-473E-4723-AF15-6FCC0E4690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rcRect l="0" t="9114" r="13524" b="8701"/>
          <a:stretch/>
        </p:blipFill>
        <p:spPr>
          <a:xfrm>
            <a:off x="7956720" y="6068880"/>
            <a:ext cx="10918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24C8-389E-439E-900B-1A958F7593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Microlight Activity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MA Meeting Nov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Contributing Countr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42800" y="1412640"/>
            <a:ext cx="3151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zech Re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18200" y="1412640"/>
            <a:ext cx="345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n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th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7200" y="144360"/>
            <a:ext cx="8799480" cy="6508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70246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65160" y="703584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440480"/>
            <a:ext cx="828720" cy="922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41400" y="74422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737E-007 C 0.08247 -0.31853 0.16493 -0.63636 0.31528 -0.74786 C 0.46563 -0.85935 0.80521 -0.68286 0.90243 -0.66944 E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3347E-006 C 0.02222 -0.38029 0.04445 -0.76058 0.17656 -0.84016 C 0.30868 -0.91973 0.69028 -0.53828 0.79306 -0.47791 E">
                                      <p:cBhvr>
                                        <p:cTn id="1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474E-007 C 0.14445 -0.3708 0.28889 -0.74138 0.43854 -0.82304 C 0.58854 -0.90469 0.74358 -0.69766 0.89879 -0.49063 E">
                                      <p:cBhvr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1.32084E-006 C 0.11372 -0.33588 0.22761 -0.67152 0.36112 -0.69743 C 0.49463 -0.72334 0.72779 -0.24543 0.80122 -0.15499 E">
                                      <p:cBhvr>
                                        <p:cTn id="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4680" y="-85680"/>
            <a:ext cx="91533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6:50:18Z</dcterms:created>
  <dc:creator>Keith Negal</dc:creator>
  <dc:description/>
  <dc:language>en-US</dc:language>
  <cp:lastModifiedBy>Keith Negal</cp:lastModifiedBy>
  <dcterms:modified xsi:type="dcterms:W3CDTF">2005-11-17T14:52:57Z</dcterms:modified>
  <cp:revision>6</cp:revision>
  <dc:subject/>
  <dc:title>Slide 1</dc:title>
</cp:coreProperties>
</file>