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8BC7-D1EC-4D2B-96D6-8841E269330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hr viele = 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weit =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kurz = 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rt = 2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263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JK06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08000" y="0"/>
            <a:ext cx="1224000" cy="1450440"/>
            <a:chOff x="-108000" y="0"/>
            <a:chExt cx="1224000" cy="1450440"/>
          </a:xfrm>
        </p:grpSpPr>
        <p:sp>
          <p:nvSpPr>
            <p:cNvPr id="5" name=""/>
            <p:cNvSpPr/>
            <p:nvPr/>
          </p:nvSpPr>
          <p:spPr>
            <a:xfrm>
              <a:off x="-637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-108000" y="0"/>
              <a:ext cx="1224000" cy="1450440"/>
              <a:chOff x="-108000" y="0"/>
              <a:chExt cx="1224000" cy="1450440"/>
            </a:xfrm>
          </p:grpSpPr>
          <p:sp>
            <p:nvSpPr>
              <p:cNvPr id="7" name=""/>
              <p:cNvSpPr/>
              <p:nvPr/>
            </p:nvSpPr>
            <p:spPr>
              <a:xfrm>
                <a:off x="-10800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-64080" y="0"/>
                <a:ext cx="1180080" cy="1450440"/>
                <a:chOff x="-64080" y="0"/>
                <a:chExt cx="1180080" cy="1450440"/>
              </a:xfrm>
            </p:grpSpPr>
            <p:pic>
              <p:nvPicPr>
                <p:cNvPr id="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6408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-6408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" name=""/>
              <p:cNvSpPr/>
              <p:nvPr/>
            </p:nvSpPr>
            <p:spPr>
              <a:xfrm>
                <a:off x="7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1223640" cy="1450440"/>
            <a:chOff x="0" y="0"/>
            <a:chExt cx="1223640" cy="1450440"/>
          </a:xfrm>
        </p:grpSpPr>
        <p:sp>
          <p:nvSpPr>
            <p:cNvPr id="51" name=""/>
            <p:cNvSpPr/>
            <p:nvPr/>
          </p:nvSpPr>
          <p:spPr>
            <a:xfrm>
              <a:off x="439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0" y="0"/>
              <a:ext cx="1223640" cy="1450440"/>
              <a:chOff x="0" y="0"/>
              <a:chExt cx="1223640" cy="145044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43560" y="0"/>
                <a:ext cx="1180080" cy="1450440"/>
                <a:chOff x="43560" y="0"/>
                <a:chExt cx="1180080" cy="1450440"/>
              </a:xfrm>
            </p:grpSpPr>
            <p:pic>
              <p:nvPicPr>
                <p:cNvPr id="5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56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56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" name=""/>
              <p:cNvSpPr/>
              <p:nvPr/>
            </p:nvSpPr>
            <p:spPr>
              <a:xfrm>
                <a:off x="115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FAI-CIMP 2008</a:t>
            </a: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 Accident Rates in COMPETITION FLYING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720" y="53006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23640" y="1916280"/>
            <a:ext cx="454356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hase of f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evel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Inju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04920" y="91440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Phase of Fligh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990720"/>
          <a:ext cx="853452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Victims (23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106668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59720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3739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60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f accidents without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55%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s while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utl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44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n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accident: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5898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30268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re are glider accidents in competi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 about 1/3 of the accidents pilots get ki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nding accidents are No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landing: a risk, not enough resp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d. Emergency Treatment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n Base:  anticipa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ff Base:  to be im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idents on Ba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cial preparation required! (Trai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sider modern Standards / Responsibiliti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E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52360" y="981000"/>
            <a:ext cx="7991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Questions, Comments?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eromednews@t-online.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340000" y="1125360"/>
            <a:ext cx="4318200" cy="5109840"/>
            <a:chOff x="2340000" y="1125360"/>
            <a:chExt cx="4318200" cy="5109840"/>
          </a:xfrm>
        </p:grpSpPr>
        <p:sp>
          <p:nvSpPr>
            <p:cNvPr id="226" name=""/>
            <p:cNvSpPr/>
            <p:nvPr/>
          </p:nvSpPr>
          <p:spPr>
            <a:xfrm>
              <a:off x="2495160" y="1771560"/>
              <a:ext cx="4163040" cy="40870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340000" y="1125360"/>
              <a:ext cx="4317120" cy="5109840"/>
              <a:chOff x="2340000" y="1125360"/>
              <a:chExt cx="4317120" cy="5109840"/>
            </a:xfrm>
          </p:grpSpPr>
          <p:sp>
            <p:nvSpPr>
              <p:cNvPr id="228" name=""/>
              <p:cNvSpPr/>
              <p:nvPr/>
            </p:nvSpPr>
            <p:spPr>
              <a:xfrm>
                <a:off x="2340000" y="2781720"/>
                <a:ext cx="4311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2493720" y="1125360"/>
                <a:ext cx="4163400" cy="5109840"/>
                <a:chOff x="2493720" y="1125360"/>
                <a:chExt cx="4163400" cy="5109840"/>
              </a:xfrm>
            </p:grpSpPr>
            <p:pic>
              <p:nvPicPr>
                <p:cNvPr id="23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493720" y="1125360"/>
                  <a:ext cx="4163400" cy="5109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93720" y="1873080"/>
                  <a:ext cx="4031280" cy="381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2" name=""/>
              <p:cNvSpPr/>
              <p:nvPr/>
            </p:nvSpPr>
            <p:spPr>
              <a:xfrm>
                <a:off x="2747880" y="2371320"/>
                <a:ext cx="3457080" cy="336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664920" y="251316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Admin EAS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ld JAR FCL general Syllabu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imilar to Annex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o Updates 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Questionable: HF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ew EASA Post: - HF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o far no practical advice for Gen A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cientific backround, resourc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3440" y="4971960"/>
            <a:ext cx="5937120" cy="1657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21120" y="5421240"/>
            <a:ext cx="0" cy="149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76440" y="5857920"/>
            <a:ext cx="0" cy="33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5661000"/>
            <a:ext cx="92556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66840" y="6058080"/>
            <a:ext cx="2395800" cy="188640"/>
          </a:xfrm>
          <a:custGeom>
            <a:avLst/>
            <a:gdLst/>
            <a:ahLst/>
            <a:rect l="l" t="t" r="r" b="b"/>
            <a:pathLst>
              <a:path w="1990" h="249">
                <a:moveTo>
                  <a:pt x="0" y="229"/>
                </a:moveTo>
                <a:lnTo>
                  <a:pt x="0" y="0"/>
                </a:lnTo>
                <a:lnTo>
                  <a:pt x="1989" y="0"/>
                </a:lnTo>
                <a:lnTo>
                  <a:pt x="1989" y="2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70520" y="6156360"/>
            <a:ext cx="95868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68080" y="6135840"/>
            <a:ext cx="766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ceptu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24280" y="6151680"/>
            <a:ext cx="92376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90520" y="6135840"/>
            <a:ext cx="792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kill-Bas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6440" y="5575320"/>
            <a:ext cx="3022920" cy="154080"/>
          </a:xfrm>
          <a:custGeom>
            <a:avLst/>
            <a:gdLst/>
            <a:ahLst/>
            <a:rect l="l" t="t" r="r" b="b"/>
            <a:pathLst>
              <a:path w="2929" h="151">
                <a:moveTo>
                  <a:pt x="0" y="117"/>
                </a:moveTo>
                <a:lnTo>
                  <a:pt x="0" y="0"/>
                </a:lnTo>
                <a:lnTo>
                  <a:pt x="2928" y="0"/>
                </a:lnTo>
                <a:lnTo>
                  <a:pt x="2928" y="15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55920" y="5076720"/>
            <a:ext cx="1116360" cy="37800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7800" y="5661000"/>
            <a:ext cx="92700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01720" y="6151680"/>
            <a:ext cx="92232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48240" y="6134040"/>
            <a:ext cx="63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Dec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89520" y="6058080"/>
            <a:ext cx="1203480" cy="136440"/>
          </a:xfrm>
          <a:custGeom>
            <a:avLst/>
            <a:gdLst/>
            <a:ahLst/>
            <a:rect l="l" t="t" r="r" b="b"/>
            <a:pathLst>
              <a:path w="1001" h="182">
                <a:moveTo>
                  <a:pt x="0" y="167"/>
                </a:moveTo>
                <a:lnTo>
                  <a:pt x="0" y="0"/>
                </a:lnTo>
                <a:lnTo>
                  <a:pt x="1000" y="0"/>
                </a:lnTo>
                <a:lnTo>
                  <a:pt x="1000" y="181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18160" y="6149880"/>
            <a:ext cx="9255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70360" y="6210360"/>
            <a:ext cx="822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xcep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560" y="6154560"/>
            <a:ext cx="925560" cy="3477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94320" y="6208560"/>
            <a:ext cx="61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ou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99360" y="5851440"/>
            <a:ext cx="0" cy="192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29200" y="5651640"/>
            <a:ext cx="927360" cy="32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0360" y="5711760"/>
            <a:ext cx="731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279440"/>
            <a:ext cx="5181840" cy="135756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1946160"/>
            <a:ext cx="3786120" cy="16056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51200" y="1757520"/>
            <a:ext cx="0" cy="18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5400" y="1946160"/>
            <a:ext cx="0" cy="128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4280" y="193212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41600" y="2050920"/>
            <a:ext cx="104796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8968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73600" y="2050920"/>
            <a:ext cx="98100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6864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6040" y="2101680"/>
            <a:ext cx="82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dequ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89480" y="2021040"/>
            <a:ext cx="949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lann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ppropri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per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36680" y="2021040"/>
            <a:ext cx="6584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Failed 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orr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bl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75360" y="2097000"/>
            <a:ext cx="836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14720" y="1353960"/>
            <a:ext cx="1346400" cy="46692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27000" bIns="27000" anchor="b" anchorCtr="1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712960"/>
            <a:ext cx="7010640" cy="21844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3514680"/>
            <a:ext cx="3543480" cy="149400"/>
          </a:xfrm>
          <a:custGeom>
            <a:avLst/>
            <a:gdLst/>
            <a:ahLst/>
            <a:rect l="l" t="t" r="r" b="b"/>
            <a:pathLst>
              <a:path w="2877" h="149">
                <a:moveTo>
                  <a:pt x="0" y="116"/>
                </a:moveTo>
                <a:lnTo>
                  <a:pt x="0" y="0"/>
                </a:lnTo>
                <a:lnTo>
                  <a:pt x="2876" y="0"/>
                </a:lnTo>
                <a:lnTo>
                  <a:pt x="2876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00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849920" y="3338280"/>
            <a:ext cx="3240" cy="169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8560" y="283212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00320" y="4052880"/>
            <a:ext cx="0" cy="331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1160" y="4178160"/>
            <a:ext cx="259092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81040" y="284328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629400" y="4052880"/>
            <a:ext cx="1440" cy="15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5680" y="4178160"/>
            <a:ext cx="138888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48080" y="4308480"/>
            <a:ext cx="111276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76440" y="4268880"/>
            <a:ext cx="1252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Physiologic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750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8560" y="4268880"/>
            <a:ext cx="113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hysical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ent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Limit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676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4343400"/>
            <a:ext cx="1074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sonal Readin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67160" y="4308480"/>
            <a:ext cx="128304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05240" y="4338720"/>
            <a:ext cx="1405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rew Resource Mis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05520" y="3621240"/>
            <a:ext cx="1262160" cy="471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Practice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29080" y="76320"/>
            <a:ext cx="3886200" cy="11300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0240" y="625320"/>
            <a:ext cx="2590920" cy="13968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6228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34640" y="752400"/>
            <a:ext cx="893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esour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692280"/>
            <a:ext cx="1109880" cy="4395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86360" y="73332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lim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232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3200" y="75240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38120"/>
            <a:ext cx="1440" cy="17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0560" y="287280"/>
            <a:ext cx="1440" cy="9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60640" y="152280"/>
            <a:ext cx="1376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NFLUEN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21040" y="511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28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8240" y="129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684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94160" y="18900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FA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20640" y="6607080"/>
            <a:ext cx="22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Modified and adapted by Shappell 20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fade thruBlk="true"/>
      </p:transition>
    </mc:Choice>
    <mc:Fallback>
      <p:transition spd="slow">
        <p:fade thruBlk="true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Percentage of recommendations</a:t>
            </a:r>
            <a:br>
              <a:rPr sz="2400"/>
            </a:b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associated with each intervention catego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ntervention Category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       %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dministrative/Organizational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4.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ules/Regulations/Polici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.2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formation management/ Comm.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3.7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esearch/Special study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.44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Human resource management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chanical/Engineering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1.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Design/Repair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3.1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spection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03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uman/Crew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1.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Training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1.4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Task/Missio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23.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Procedur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4.5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Manual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60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HFAC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 Classification Tax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rack Mishap Trends (over time, intern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pplicability (Mil, Airlines, GenAviat, Ma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aluate Effectiveness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r Rater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eptable Levels of Expert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ther Mishap Classifica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rect manpower and funds        -oth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38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Glider-Competitions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Analysis of </a:t>
            </a: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Accident Data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 1998 - 2007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76000" y="5333760"/>
            <a:ext cx="6372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Subjec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mergency Service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t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ccident Data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BFU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(Ge. Inst. f. accident invstigation)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tatistic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: Accidents 1998 -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nalysis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istribution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„Onbase“ / „Offbas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umm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llected Data of BFU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308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www.bfu-web.de </a:t>
            </a:r>
            <a:r>
              <a:rPr b="1" lang="de-DE" sz="36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orted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nual Reports,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2637000"/>
          <a:ext cx="857556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37000"/>
                    <a:ext cx="8575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059280" y="4292640"/>
            <a:ext cx="273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j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d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-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4292640"/>
            <a:ext cx="3024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i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-La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ff-Bas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292640"/>
            <a:ext cx="2343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o Inju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35 accidents in “Glider“ Competitions in 10 Years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stis</cp:lastModifiedBy>
  <dcterms:modified xsi:type="dcterms:W3CDTF">2014-04-26T21:26:56Z</dcterms:modified>
  <cp:revision>56</cp:revision>
  <dc:subject/>
  <dc:title>PowerPoint Presentation</dc:title>
</cp:coreProperties>
</file>