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33CA-005B-4E37-8DEF-A71CC7651A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3F4A-5FD3-42A9-A43F-8B8B5165A9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32FF6-7698-43B2-AAE9-29F002B17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DAD04-2DFB-4D0B-9B2C-AD8A766F6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543AE-2D80-44EE-8022-57979CCAC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79A9C-49C8-481A-8D3B-72F8E58CF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FB5FA-BEE2-45A6-8301-67E68F151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83221-C629-44BF-9706-196E5F1FC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CEADD-B185-4A20-A05E-E3FC44685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F22FC-17B0-45F1-B905-C0F551E48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696F9-A58E-47F9-84F1-975769C35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BD57D-1813-4797-9AE1-C95FDF116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46548-4E10-4C5D-B8B7-1A73402D3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5EE04-2663-4D88-ADAF-20641867D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54B4-91B2-493D-85FD-0DD7659DA7B2}" type="datetime">
              <a:rPr b="1" lang="fr-FR" sz="1200" spc="-1" strike="noStrike">
                <a:solidFill>
                  <a:srgbClr val="000000"/>
                </a:solidFill>
                <a:latin typeface="Arial"/>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2D381-AC0A-4E1C-BEE4-9674383171DB}"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2C608407-37CF-43D9-9BB5-9CE935A85E05}" type="datetime">
              <a:rPr b="1" lang="fr-FR" sz="1200" spc="-1" strike="noStrike">
                <a:solidFill>
                  <a:srgbClr val="000000"/>
                </a:solidFill>
                <a:latin typeface="Arial"/>
              </a:rPr>
              <a:t>30/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