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00D4-6C35-42EB-9FD3-16143E937D4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9A56-909B-459D-AE1B-31207D329A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2B73-7EB0-496D-80D9-E8DA2CCB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606-C9EA-4690-BCDE-AF0A7277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4F4C-2FA5-4143-9794-8DE87B5E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364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272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364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272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BE20-45C5-4468-BF99-9BA09F22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CB46-F586-4888-A851-D538D6E6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0B5-1E83-436F-B02C-75BD9A6A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A1F-62E4-470E-8D6F-728BF8DE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E81-B308-4614-A495-D8527A6F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0CC-ACAA-448E-A233-65E3F06C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3FF-7EC5-4748-AA38-0E61D2B3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520-4014-4BCA-B497-129BF56E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6004-EDBF-4D8F-90F3-212D42EA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DB90-0A96-460E-81D9-789ADF497C6E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A580-FC90-4367-83AC-AD7BE6C451AE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4508280"/>
            <a:ext cx="95169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Eurostile"/>
              </a:rPr>
              <a:t>Juergen K Knueppel MD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Eurostile"/>
              </a:rPr>
              <a:t>FAI-CIMP Issues  </a:t>
            </a:r>
            <a:r>
              <a:rPr b="0" lang="de-DE" sz="40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Eurostile"/>
              </a:rPr>
              <a:t>-commission internationale medico physiologique-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9800" y="1052280"/>
            <a:ext cx="94042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Flight Safety Data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Human Factors, Request for competen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Accident Investigation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Advise to Commissions,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ICAO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Proactive Flight Safty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 Initiativ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 TUE Pannel  -  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necessary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Eurostile"/>
              </a:rPr>
              <a:t>“Doping“ waivor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oblem:(“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older”) athletes taking already for yea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quired medicine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Answe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lated questions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 anytim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: Medical and Physiological expertis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300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EASA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Medical Licencing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Sporting Licence (FAA-SPL ?), </a:t>
            </a:r>
            <a:r>
              <a:rPr b="0" lang="de-DE" sz="1200" spc="-1" strike="noStrike">
                <a:solidFill>
                  <a:srgbClr val="000000"/>
                </a:solidFill>
                <a:latin typeface="Eurostile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Support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i.e. G-Forces, Oxygen, Emergency Plans, CISM, other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09:05:47Z</dcterms:modified>
  <cp:revision>484</cp:revision>
  <dc:subject/>
  <dc:title>Présentation PowerPoint</dc:title>
</cp:coreProperties>
</file>